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wmf" ContentType="image/x-wmf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19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2A08-F30F-4CCE-9F31-3AB6734A9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tudied at the University of Vienna from 1851 to 1853 where he was influenced by a physicist who encouraged experimentation and the application of mathematics to science and a botanist who aroused Mendel’s interest in the causes of variation in plants.  After the university, Mendel taught at the Brunn Modern School and lived in the local monast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nks at this monastery had a long tradition of interest in the breeding of plants, including peas. Around 1857, Mendel began breeding garden peas to study inheri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nkled seeds in pea plants with two copies of the recessive allele are due to the accumulation of monosaccharides and excess water in seeds because of the lack of a key enzyme. The seeds wrinkle when they d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homozygous dominants and heterozygotes produce enough enzyme to convert all the monosaccharides into starch and form smooth seeds when they d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filial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typical breeding experiment, Mendel would cross-pollinate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iz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two contrasting, true-breeding pea varie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 gene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ir hybrid offspring ar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ene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 would then allow the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ybrids to self-pollinate to produce an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9AB6-BA09-45DE-B677-E20BA15D3E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0A57-136E-4326-B1ED-AF264FEF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CCD00-7E5F-4D6F-BCA4-7DF402C8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FA09-A75E-49B6-B5F0-AE8208C318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2AF3-2814-48B8-9512-E9C7A20C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C6DF7-0258-4ECF-9000-EAECB834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5F8F-B49D-4270-B219-BEA00FA0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22161-0920-4A20-A459-207A8A39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8BB9-EA1A-4BBE-8569-EAFC32F5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FA24-8B46-4455-AD07-A02C1D73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4D5F-6FA1-4111-A64E-80EB7124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66ED-96D8-4B3F-BC5A-7B9F3EC7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B6ED-0457-429E-879B-7244F9D4A289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 14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 &amp; Genet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730920" y="380880"/>
            <a:ext cx="2413080" cy="2971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67543" t="1443" r="15927" b="82803"/>
          <a:stretch/>
        </p:blipFill>
        <p:spPr>
          <a:xfrm>
            <a:off x="7543800" y="2819520"/>
            <a:ext cx="755640" cy="76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47789" t="1802" r="35681" b="82803"/>
          <a:stretch/>
        </p:blipFill>
        <p:spPr>
          <a:xfrm>
            <a:off x="6400800" y="1916280"/>
            <a:ext cx="754200" cy="747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0" y="3944880"/>
            <a:ext cx="3200400" cy="2913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rcRect l="0" t="2252" r="45001" b="0"/>
          <a:stretch/>
        </p:blipFill>
        <p:spPr>
          <a:xfrm>
            <a:off x="7467480" y="4495680"/>
            <a:ext cx="1487520" cy="1981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4ADE-918E-4774-B02B-DC06457CED45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aking cross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using representative letter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lower color alleles 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ue-breeding purple-flower peas 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P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ue-breeding white-flower peas 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p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44605" t="0" r="11727" b="46683"/>
          <a:stretch/>
        </p:blipFill>
        <p:spPr>
          <a:xfrm>
            <a:off x="2057400" y="4038480"/>
            <a:ext cx="1996920" cy="258948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4822560" y="4114440"/>
            <a:ext cx="2550600" cy="794880"/>
            <a:chOff x="4822560" y="4114440"/>
            <a:chExt cx="2550600" cy="794880"/>
          </a:xfrm>
        </p:grpSpPr>
        <p:sp>
          <p:nvSpPr>
            <p:cNvPr id="182" name=""/>
            <p:cNvSpPr/>
            <p:nvPr/>
          </p:nvSpPr>
          <p:spPr>
            <a:xfrm>
              <a:off x="4822560" y="4114440"/>
              <a:ext cx="95796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660066"/>
                  </a:solidFill>
                  <a:latin typeface="Arial"/>
                </a:rPr>
                <a:t>PP</a:t>
              </a:r>
              <a:endParaRPr b="0" lang="en-US" sz="4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05800" y="4174560"/>
              <a:ext cx="44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0" lang="en-US" sz="3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79280" y="4114440"/>
              <a:ext cx="893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600" spc="-1" strike="noStrike">
                  <a:solidFill>
                    <a:srgbClr val="660066"/>
                  </a:solidFill>
                  <a:latin typeface="Arial"/>
                </a:rPr>
                <a:t>pp</a:t>
              </a:r>
              <a:endParaRPr b="0" lang="en-US" sz="4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634360" y="5682960"/>
            <a:ext cx="926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i="1" lang="en-US" sz="4600" spc="-1" strike="noStrike">
                <a:solidFill>
                  <a:srgbClr val="660066"/>
                </a:solidFill>
                <a:latin typeface="Arial"/>
              </a:rPr>
              <a:t>p</a:t>
            </a:r>
            <a:endParaRPr b="0" lang="en-US" sz="4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83200" y="495288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8F09-A187-4601-AD99-F50ED8DD70EC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2211480" y="5870520"/>
            <a:ext cx="4230720" cy="835200"/>
            <a:chOff x="2211480" y="5870520"/>
            <a:chExt cx="4230720" cy="83520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rcRect l="67543" t="0" r="15927" b="82803"/>
            <a:stretch/>
          </p:blipFill>
          <p:spPr>
            <a:xfrm>
              <a:off x="5686560" y="5870520"/>
              <a:ext cx="75564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rcRect l="47789" t="0" r="35681" b="82803"/>
            <a:stretch/>
          </p:blipFill>
          <p:spPr>
            <a:xfrm>
              <a:off x="2211480" y="5870520"/>
              <a:ext cx="75384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3"/>
            <a:srcRect l="47789" t="0" r="35681" b="82803"/>
            <a:stretch/>
          </p:blipFill>
          <p:spPr>
            <a:xfrm>
              <a:off x="3049560" y="5870520"/>
              <a:ext cx="75420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4"/>
            <a:srcRect l="47789" t="0" r="35681" b="82803"/>
            <a:stretch/>
          </p:blipFill>
          <p:spPr>
            <a:xfrm>
              <a:off x="3887640" y="5870520"/>
              <a:ext cx="754200" cy="83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2979720" y="3735360"/>
            <a:ext cx="3260880" cy="835200"/>
            <a:chOff x="2979720" y="3735360"/>
            <a:chExt cx="3260880" cy="835200"/>
          </a:xfrm>
        </p:grpSpPr>
        <p:pic>
          <p:nvPicPr>
            <p:cNvPr id="194" name="" descr=""/>
            <p:cNvPicPr/>
            <p:nvPr/>
          </p:nvPicPr>
          <p:blipFill>
            <a:blip r:embed="rId5"/>
            <a:srcRect l="47789" t="0" r="35681" b="82803"/>
            <a:stretch/>
          </p:blipFill>
          <p:spPr>
            <a:xfrm>
              <a:off x="2979720" y="3735360"/>
              <a:ext cx="75420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6"/>
            <a:srcRect l="47789" t="0" r="35681" b="82803"/>
            <a:stretch/>
          </p:blipFill>
          <p:spPr>
            <a:xfrm>
              <a:off x="3809880" y="3735360"/>
              <a:ext cx="75420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7"/>
            <a:srcRect l="47789" t="0" r="35681" b="82803"/>
            <a:stretch/>
          </p:blipFill>
          <p:spPr>
            <a:xfrm>
              <a:off x="4648320" y="3735360"/>
              <a:ext cx="75384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8"/>
            <a:srcRect l="47789" t="0" r="35681" b="82803"/>
            <a:stretch/>
          </p:blipFill>
          <p:spPr>
            <a:xfrm>
              <a:off x="5486400" y="3735360"/>
              <a:ext cx="7542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9"/>
          <a:srcRect l="67543" t="0" r="16570" b="82803"/>
          <a:stretch/>
        </p:blipFill>
        <p:spPr>
          <a:xfrm>
            <a:off x="5684760" y="1905120"/>
            <a:ext cx="727200" cy="8348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0"/>
          <a:srcRect l="47789" t="0" r="35681" b="82803"/>
          <a:stretch/>
        </p:blipFill>
        <p:spPr>
          <a:xfrm>
            <a:off x="2725560" y="1905120"/>
            <a:ext cx="754200" cy="8348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ooking closer at Mendel’s work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56800" y="1369800"/>
            <a:ext cx="266328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true-breedin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urple-flower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4920" y="1369800"/>
            <a:ext cx="252324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ue-breeding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te-flower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79760" y="1512360"/>
            <a:ext cx="4017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96880" y="3504960"/>
            <a:ext cx="1154520" cy="4136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00%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52240" y="3122280"/>
            <a:ext cx="266328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100%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urple-flower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4920" y="5313240"/>
            <a:ext cx="252324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ヒラギノ角ゴ Pro W3"/>
              </a:rPr>
              <a:t>_x0008__x0008_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25%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te-flower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5240" y="5313240"/>
            <a:ext cx="266328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75%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urple-flower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205740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480060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014320" y="5378040"/>
            <a:ext cx="730800" cy="4136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3: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56880" y="234576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36600" y="234576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63600" y="41745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7640" y="41745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5720" y="41745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64160" y="41745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29680" y="4648320"/>
            <a:ext cx="1980000" cy="609480"/>
            <a:chOff x="229680" y="4648320"/>
            <a:chExt cx="1980000" cy="609480"/>
          </a:xfrm>
        </p:grpSpPr>
        <p:sp>
          <p:nvSpPr>
            <p:cNvPr id="219" name=""/>
            <p:cNvSpPr/>
            <p:nvPr/>
          </p:nvSpPr>
          <p:spPr>
            <a:xfrm>
              <a:off x="304920" y="4648320"/>
              <a:ext cx="1904760" cy="609480"/>
            </a:xfrm>
            <a:prstGeom prst="rightArrow">
              <a:avLst>
                <a:gd name="adj1" fmla="val 50000"/>
                <a:gd name="adj2" fmla="val 78131"/>
              </a:avLst>
            </a:prstGeom>
            <a:solidFill>
              <a:srgbClr val="ffcc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9680" y="4739400"/>
              <a:ext cx="1904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elf-pollinate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843880" y="60951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40280" y="60951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78160" y="60951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3760" y="609516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44080" y="2666160"/>
            <a:ext cx="1593360" cy="4291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phenotyp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96880" y="3504960"/>
            <a:ext cx="1154520" cy="4136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00%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52240" y="3122280"/>
            <a:ext cx="266328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100%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urple-flower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840" y="3268440"/>
            <a:ext cx="1482120" cy="10105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ener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hybrid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4920" y="5313240"/>
            <a:ext cx="252324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ヒラギノ角ゴ Pro W3"/>
              </a:rPr>
              <a:t>_x0008__x0008_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25%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te-flower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840" y="5767200"/>
            <a:ext cx="1482120" cy="7340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ener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55240" y="5313240"/>
            <a:ext cx="266328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75%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urple-flower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14320" y="5378040"/>
            <a:ext cx="730800" cy="4136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3: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0920" y="1644120"/>
            <a:ext cx="435240" cy="4136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C8DE-A70B-4F8E-A991-835A483DA518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1722600" y="3645000"/>
          <a:ext cx="2895480" cy="252720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rcRect l="47789" t="0" r="35681" b="82803"/>
          <a:stretch/>
        </p:blipFill>
        <p:spPr>
          <a:xfrm>
            <a:off x="2057400" y="3962520"/>
            <a:ext cx="754200" cy="834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rcRect l="47789" t="0" r="35681" b="82803"/>
          <a:stretch/>
        </p:blipFill>
        <p:spPr>
          <a:xfrm>
            <a:off x="3505320" y="3962520"/>
            <a:ext cx="753840" cy="8348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rcRect l="47789" t="0" r="35681" b="82803"/>
          <a:stretch/>
        </p:blipFill>
        <p:spPr>
          <a:xfrm>
            <a:off x="2057400" y="5257800"/>
            <a:ext cx="754200" cy="835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rcRect l="67543" t="0" r="16570" b="82803"/>
          <a:stretch/>
        </p:blipFill>
        <p:spPr>
          <a:xfrm>
            <a:off x="3505320" y="5257800"/>
            <a:ext cx="726840" cy="835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rcRect l="47789" t="0" r="35681" b="82803"/>
          <a:stretch/>
        </p:blipFill>
        <p:spPr>
          <a:xfrm>
            <a:off x="3330720" y="1527120"/>
            <a:ext cx="753840" cy="8352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6"/>
          <a:srcRect l="47789" t="0" r="35681" b="82803"/>
          <a:stretch/>
        </p:blipFill>
        <p:spPr>
          <a:xfrm>
            <a:off x="2035080" y="1527120"/>
            <a:ext cx="754200" cy="8352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unnett squar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026800" y="1371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  x   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181240" y="2696040"/>
            <a:ext cx="1889280" cy="889200"/>
            <a:chOff x="2181240" y="2696040"/>
            <a:chExt cx="1889280" cy="889200"/>
          </a:xfrm>
        </p:grpSpPr>
        <p:sp>
          <p:nvSpPr>
            <p:cNvPr id="245" name=""/>
            <p:cNvSpPr/>
            <p:nvPr/>
          </p:nvSpPr>
          <p:spPr>
            <a:xfrm>
              <a:off x="2257560" y="303444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38880" y="303444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81240" y="2696040"/>
              <a:ext cx="188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male / sperm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70320" y="4010040"/>
            <a:ext cx="802800" cy="1951560"/>
            <a:chOff x="670320" y="4010040"/>
            <a:chExt cx="802800" cy="1951560"/>
          </a:xfrm>
        </p:grpSpPr>
        <p:sp>
          <p:nvSpPr>
            <p:cNvPr id="249" name=""/>
            <p:cNvSpPr/>
            <p:nvPr/>
          </p:nvSpPr>
          <p:spPr>
            <a:xfrm>
              <a:off x="1037880" y="410148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38240" y="525708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-90720" y="4771080"/>
              <a:ext cx="1951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female / egg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094840" y="403776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04920" y="525708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63280" y="525708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52840" y="40377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335200" y="2286000"/>
            <a:ext cx="1438560" cy="835200"/>
            <a:chOff x="5335200" y="2286000"/>
            <a:chExt cx="1438560" cy="835200"/>
          </a:xfrm>
        </p:grpSpPr>
        <p:sp>
          <p:nvSpPr>
            <p:cNvPr id="257" name=""/>
            <p:cNvSpPr/>
            <p:nvPr/>
          </p:nvSpPr>
          <p:spPr>
            <a:xfrm>
              <a:off x="5335200" y="2428200"/>
              <a:ext cx="68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7"/>
            <a:srcRect l="47789" t="0" r="35681" b="82803"/>
            <a:stretch/>
          </p:blipFill>
          <p:spPr>
            <a:xfrm>
              <a:off x="6019920" y="2286000"/>
              <a:ext cx="753840" cy="83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9" name=""/>
          <p:cNvGrpSpPr/>
          <p:nvPr/>
        </p:nvGrpSpPr>
        <p:grpSpPr>
          <a:xfrm>
            <a:off x="5344920" y="3124080"/>
            <a:ext cx="1428840" cy="835200"/>
            <a:chOff x="5344920" y="3124080"/>
            <a:chExt cx="1428840" cy="835200"/>
          </a:xfrm>
        </p:grpSpPr>
        <p:sp>
          <p:nvSpPr>
            <p:cNvPr id="260" name=""/>
            <p:cNvSpPr/>
            <p:nvPr/>
          </p:nvSpPr>
          <p:spPr>
            <a:xfrm>
              <a:off x="5344920" y="32662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8"/>
            <a:srcRect l="47789" t="0" r="35681" b="82803"/>
            <a:stretch/>
          </p:blipFill>
          <p:spPr>
            <a:xfrm>
              <a:off x="6019920" y="3124080"/>
              <a:ext cx="753840" cy="83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2" name=""/>
          <p:cNvGrpSpPr/>
          <p:nvPr/>
        </p:nvGrpSpPr>
        <p:grpSpPr>
          <a:xfrm>
            <a:off x="5344920" y="3962520"/>
            <a:ext cx="1428840" cy="834840"/>
            <a:chOff x="5344920" y="3962520"/>
            <a:chExt cx="1428840" cy="834840"/>
          </a:xfrm>
        </p:grpSpPr>
        <p:sp>
          <p:nvSpPr>
            <p:cNvPr id="263" name=""/>
            <p:cNvSpPr/>
            <p:nvPr/>
          </p:nvSpPr>
          <p:spPr>
            <a:xfrm>
              <a:off x="5344920" y="41047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rcRect l="47789" t="0" r="35681" b="82803"/>
            <a:stretch/>
          </p:blipFill>
          <p:spPr>
            <a:xfrm>
              <a:off x="6019920" y="3962520"/>
              <a:ext cx="753840" cy="83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" name=""/>
          <p:cNvGrpSpPr/>
          <p:nvPr/>
        </p:nvGrpSpPr>
        <p:grpSpPr>
          <a:xfrm>
            <a:off x="5355720" y="4800600"/>
            <a:ext cx="1419840" cy="835200"/>
            <a:chOff x="5355720" y="4800600"/>
            <a:chExt cx="1419840" cy="835200"/>
          </a:xfrm>
        </p:grpSpPr>
        <p:sp>
          <p:nvSpPr>
            <p:cNvPr id="266" name=""/>
            <p:cNvSpPr/>
            <p:nvPr/>
          </p:nvSpPr>
          <p:spPr>
            <a:xfrm>
              <a:off x="5355720" y="5022000"/>
              <a:ext cx="646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10"/>
            <a:srcRect l="67543" t="0" r="15927" b="82803"/>
            <a:stretch/>
          </p:blipFill>
          <p:spPr>
            <a:xfrm>
              <a:off x="6019920" y="4800600"/>
              <a:ext cx="755640" cy="83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8" name=""/>
          <p:cNvGrpSpPr/>
          <p:nvPr/>
        </p:nvGrpSpPr>
        <p:grpSpPr>
          <a:xfrm>
            <a:off x="8001000" y="2362320"/>
            <a:ext cx="920520" cy="2438280"/>
            <a:chOff x="8001000" y="2362320"/>
            <a:chExt cx="920520" cy="2438280"/>
          </a:xfrm>
        </p:grpSpPr>
        <p:sp>
          <p:nvSpPr>
            <p:cNvPr id="269" name=""/>
            <p:cNvSpPr/>
            <p:nvPr/>
          </p:nvSpPr>
          <p:spPr>
            <a:xfrm>
              <a:off x="8077680" y="319968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75%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001000" y="2362320"/>
              <a:ext cx="0" cy="24382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8001000" y="4876920"/>
            <a:ext cx="920520" cy="761760"/>
            <a:chOff x="8001000" y="4876920"/>
            <a:chExt cx="920520" cy="761760"/>
          </a:xfrm>
        </p:grpSpPr>
        <p:sp>
          <p:nvSpPr>
            <p:cNvPr id="272" name=""/>
            <p:cNvSpPr/>
            <p:nvPr/>
          </p:nvSpPr>
          <p:spPr>
            <a:xfrm>
              <a:off x="8077680" y="495216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001000" y="487692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8178480" y="5820840"/>
            <a:ext cx="659160" cy="4899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3:1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010280" y="2362320"/>
            <a:ext cx="920520" cy="761760"/>
            <a:chOff x="7010280" y="2362320"/>
            <a:chExt cx="920520" cy="761760"/>
          </a:xfrm>
        </p:grpSpPr>
        <p:sp>
          <p:nvSpPr>
            <p:cNvPr id="276" name=""/>
            <p:cNvSpPr/>
            <p:nvPr/>
          </p:nvSpPr>
          <p:spPr>
            <a:xfrm>
              <a:off x="7086960" y="251424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25%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10280" y="2362320"/>
              <a:ext cx="0" cy="76176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7010280" y="3200400"/>
            <a:ext cx="920520" cy="1600200"/>
            <a:chOff x="7010280" y="3200400"/>
            <a:chExt cx="920520" cy="1600200"/>
          </a:xfrm>
        </p:grpSpPr>
        <p:sp>
          <p:nvSpPr>
            <p:cNvPr id="279" name=""/>
            <p:cNvSpPr/>
            <p:nvPr/>
          </p:nvSpPr>
          <p:spPr>
            <a:xfrm>
              <a:off x="7010280" y="3200400"/>
              <a:ext cx="0" cy="16002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86960" y="365724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50%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010280" y="4876920"/>
            <a:ext cx="920520" cy="761760"/>
            <a:chOff x="7010280" y="4876920"/>
            <a:chExt cx="920520" cy="761760"/>
          </a:xfrm>
        </p:grpSpPr>
        <p:sp>
          <p:nvSpPr>
            <p:cNvPr id="282" name=""/>
            <p:cNvSpPr/>
            <p:nvPr/>
          </p:nvSpPr>
          <p:spPr>
            <a:xfrm>
              <a:off x="7086960" y="495216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10280" y="487692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6916320" y="5820840"/>
            <a:ext cx="953280" cy="4899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:2:1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54520" y="172044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genotyp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05160" y="172044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301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AC56-0268-47F0-A00A-36FE1A3A0657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otyp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omozygou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=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same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alleles =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eterozygou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=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different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alleles =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1981080" y="2590920"/>
            <a:ext cx="4761000" cy="41018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94560" y="2971440"/>
            <a:ext cx="1591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homozygous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dominan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4560" y="5714640"/>
            <a:ext cx="1591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homozygous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recessiv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CF0B-58D5-459A-9264-20E465839BBE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066680" y="2971800"/>
            <a:ext cx="7467840" cy="1981080"/>
          </a:xfrm>
          <a:prstGeom prst="rect">
            <a:avLst/>
          </a:prstGeom>
          <a:solidFill>
            <a:srgbClr val="b7c1eb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enotype vs. genotyp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organisms can have the same phenotype but have different genotyp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523880" y="3135240"/>
            <a:ext cx="6816240" cy="747720"/>
            <a:chOff x="1523880" y="3135240"/>
            <a:chExt cx="6816240" cy="747720"/>
          </a:xfrm>
        </p:grpSpPr>
        <p:sp>
          <p:nvSpPr>
            <p:cNvPr id="298" name=""/>
            <p:cNvSpPr/>
            <p:nvPr/>
          </p:nvSpPr>
          <p:spPr>
            <a:xfrm>
              <a:off x="3985560" y="3190320"/>
              <a:ext cx="68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99" name="" descr=""/>
            <p:cNvPicPr/>
            <p:nvPr/>
          </p:nvPicPr>
          <p:blipFill>
            <a:blip r:embed="rId1"/>
            <a:srcRect l="47789" t="1802" r="35681" b="82803"/>
            <a:stretch/>
          </p:blipFill>
          <p:spPr>
            <a:xfrm>
              <a:off x="1523880" y="3135240"/>
              <a:ext cx="75420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4824720" y="3235680"/>
              <a:ext cx="35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homozygous dominant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16040" y="3190320"/>
              <a:ext cx="1344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440044"/>
                  </a:solidFill>
                  <a:latin typeface="Arial"/>
                </a:rPr>
                <a:t>purple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523880" y="4052880"/>
            <a:ext cx="5461920" cy="747720"/>
            <a:chOff x="1523880" y="4052880"/>
            <a:chExt cx="5461920" cy="747720"/>
          </a:xfrm>
        </p:grpSpPr>
        <p:sp>
          <p:nvSpPr>
            <p:cNvPr id="303" name=""/>
            <p:cNvSpPr/>
            <p:nvPr/>
          </p:nvSpPr>
          <p:spPr>
            <a:xfrm>
              <a:off x="3985920" y="41076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2"/>
            <a:srcRect l="47789" t="1802" r="35681" b="82803"/>
            <a:stretch/>
          </p:blipFill>
          <p:spPr>
            <a:xfrm>
              <a:off x="1523880" y="4052880"/>
              <a:ext cx="75420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4825440" y="415332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heterozygou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23960" y="4107600"/>
              <a:ext cx="1344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440044"/>
                  </a:solidFill>
                  <a:latin typeface="Arial"/>
                </a:rPr>
                <a:t>purple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FA50-29E5-46C9-A7D7-ECA5E75A01E4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minant phenotyp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t is not possible to determine the genotype of an organism with a dominant phenotype by looking at it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rcRect l="40655" t="6003" r="40655" b="72006"/>
          <a:stretch/>
        </p:blipFill>
        <p:spPr>
          <a:xfrm>
            <a:off x="1944720" y="3429000"/>
            <a:ext cx="1652400" cy="17334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076280" y="3412440"/>
            <a:ext cx="92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85280" y="4342680"/>
            <a:ext cx="90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553080" y="3809880"/>
            <a:ext cx="2133720" cy="2971800"/>
            <a:chOff x="6553080" y="3809880"/>
            <a:chExt cx="2133720" cy="2971800"/>
          </a:xfrm>
        </p:grpSpPr>
        <p:pic>
          <p:nvPicPr>
            <p:cNvPr id="314" name="" descr=""/>
            <p:cNvPicPr/>
            <p:nvPr/>
          </p:nvPicPr>
          <p:blipFill>
            <a:blip r:embed="rId2"/>
            <a:stretch/>
          </p:blipFill>
          <p:spPr>
            <a:xfrm>
              <a:off x="7412040" y="5486400"/>
              <a:ext cx="1274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6553080" y="3809880"/>
              <a:ext cx="2133720" cy="1219320"/>
            </a:xfrm>
            <a:prstGeom prst="wedgeEllipseCallout">
              <a:avLst>
                <a:gd name="adj1" fmla="val 4162"/>
                <a:gd name="adj2" fmla="val 102861"/>
              </a:avLst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So how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do you figure out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the genotype?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FB1C-76BE-4A27-8B5D-43097CE500FB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est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ross-breed the dominant phenotype —  unknown genotype — with a homozygous recessive (</a:t>
            </a:r>
            <a:r>
              <a:rPr b="1" i="1" lang="en-US" sz="3000" spc="-1" strike="noStrike">
                <a:solidFill>
                  <a:srgbClr val="660066"/>
                </a:solidFill>
                <a:latin typeface="Arial"/>
              </a:rPr>
              <a:t>p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) to determine the identity of the unknown alle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40655" t="6003" r="40655" b="72006"/>
          <a:stretch/>
        </p:blipFill>
        <p:spPr>
          <a:xfrm>
            <a:off x="2743200" y="4038480"/>
            <a:ext cx="1162080" cy="12193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41728" t="68403" r="41728" b="9600"/>
          <a:stretch/>
        </p:blipFill>
        <p:spPr>
          <a:xfrm>
            <a:off x="4800600" y="3962520"/>
            <a:ext cx="1093680" cy="12952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192560" y="426636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30640" y="5180760"/>
            <a:ext cx="708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0066"/>
                </a:solidFill>
                <a:latin typeface="Arial"/>
              </a:rPr>
              <a:t>pp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63760" y="5104800"/>
            <a:ext cx="2001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is it</a:t>
            </a:r>
            <a:br>
              <a:rPr sz="3000"/>
            </a:b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P or P</a:t>
            </a:r>
            <a:r>
              <a:rPr b="1" i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71B9-071F-4D73-9472-E63D5F68A282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1192320" y="1289160"/>
            <a:ext cx="2770200" cy="1225440"/>
            <a:chOff x="1192320" y="1289160"/>
            <a:chExt cx="2770200" cy="122544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rcRect l="40655" t="6003" r="40655" b="72006"/>
            <a:stretch/>
          </p:blipFill>
          <p:spPr>
            <a:xfrm>
              <a:off x="1192320" y="1295280"/>
              <a:ext cx="116208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2"/>
            <a:srcRect l="41728" t="69606" r="41728" b="9600"/>
            <a:stretch/>
          </p:blipFill>
          <p:spPr>
            <a:xfrm>
              <a:off x="2868480" y="1289160"/>
              <a:ext cx="10940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412720" y="152316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449000" y="220896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69720" y="220896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3"/>
          <a:srcRect l="40655" t="6003" r="40655" b="72006"/>
          <a:stretch/>
        </p:blipFill>
        <p:spPr>
          <a:xfrm>
            <a:off x="1295280" y="3886200"/>
            <a:ext cx="943200" cy="9907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rcRect l="40655" t="6003" r="40655" b="72006"/>
          <a:stretch/>
        </p:blipFill>
        <p:spPr>
          <a:xfrm>
            <a:off x="2743200" y="3886200"/>
            <a:ext cx="942840" cy="9907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5"/>
          <a:srcRect l="40655" t="6003" r="40655" b="72006"/>
          <a:stretch/>
        </p:blipFill>
        <p:spPr>
          <a:xfrm>
            <a:off x="2743200" y="5105520"/>
            <a:ext cx="942840" cy="9903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6"/>
          <a:srcRect l="40655" t="6003" r="40655" b="72006"/>
          <a:stretch/>
        </p:blipFill>
        <p:spPr>
          <a:xfrm>
            <a:off x="1295280" y="5105520"/>
            <a:ext cx="943200" cy="990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7"/>
          <a:srcRect l="40655" t="6003" r="40655" b="72006"/>
          <a:stretch/>
        </p:blipFill>
        <p:spPr>
          <a:xfrm>
            <a:off x="5715000" y="3886200"/>
            <a:ext cx="942840" cy="9907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8"/>
          <a:srcRect l="40655" t="6003" r="40655" b="72006"/>
          <a:stretch/>
        </p:blipFill>
        <p:spPr>
          <a:xfrm>
            <a:off x="7162920" y="3886200"/>
            <a:ext cx="942840" cy="9907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9"/>
          <a:srcRect l="41728" t="68403" r="41728" b="9600"/>
          <a:stretch/>
        </p:blipFill>
        <p:spPr>
          <a:xfrm>
            <a:off x="5791320" y="5105520"/>
            <a:ext cx="836640" cy="9903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10"/>
          <a:srcRect l="41728" t="68403" r="41728" b="9600"/>
          <a:stretch/>
        </p:blipFill>
        <p:spPr>
          <a:xfrm>
            <a:off x="7238880" y="5105520"/>
            <a:ext cx="836640" cy="99036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est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100160" y="3657600"/>
          <a:ext cx="2895480" cy="252720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44840" y="310752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16440" y="310752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53760" y="411408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1560" y="526968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82480" y="405072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82480" y="526968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30400" y="526968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30400" y="405072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519880" y="3657600"/>
          <a:ext cx="2895480" cy="252720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6064200" y="310752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35800" y="310752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073480" y="411408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31000" y="526968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02200" y="405072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13000" y="526968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360560" y="526968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50120" y="405072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5611680" y="1219320"/>
            <a:ext cx="2770200" cy="1295280"/>
            <a:chOff x="5611680" y="1219320"/>
            <a:chExt cx="2770200" cy="1295280"/>
          </a:xfrm>
        </p:grpSpPr>
        <p:pic>
          <p:nvPicPr>
            <p:cNvPr id="359" name="" descr=""/>
            <p:cNvPicPr/>
            <p:nvPr/>
          </p:nvPicPr>
          <p:blipFill>
            <a:blip r:embed="rId11"/>
            <a:srcRect l="40655" t="6003" r="40655" b="72006"/>
            <a:stretch/>
          </p:blipFill>
          <p:spPr>
            <a:xfrm>
              <a:off x="5611680" y="1295280"/>
              <a:ext cx="11620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12"/>
            <a:srcRect l="41728" t="68403" r="41728" b="9600"/>
            <a:stretch/>
          </p:blipFill>
          <p:spPr>
            <a:xfrm>
              <a:off x="7288200" y="1219320"/>
              <a:ext cx="10936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832440" y="152316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5857560" y="22089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4880" y="220896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83240" y="4647600"/>
            <a:ext cx="115452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00%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69960" y="4419000"/>
            <a:ext cx="1831320" cy="10076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50%:50%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: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4360-3D83-4217-BD67-2EDAB41E4D3E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’s laws of heredity  (#1)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6477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aw of segregatio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hen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gamete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are produced during meiosis,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homologous chromosome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separate from each oth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ach allele for a trait is packaged into a separate game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81680" y="838080"/>
            <a:ext cx="2049480" cy="1752480"/>
            <a:chOff x="6781680" y="838080"/>
            <a:chExt cx="2049480" cy="1752480"/>
          </a:xfrm>
        </p:grpSpPr>
        <p:grpSp>
          <p:nvGrpSpPr>
            <p:cNvPr id="370" name=""/>
            <p:cNvGrpSpPr/>
            <p:nvPr/>
          </p:nvGrpSpPr>
          <p:grpSpPr>
            <a:xfrm>
              <a:off x="6781680" y="1334880"/>
              <a:ext cx="838080" cy="838080"/>
              <a:chOff x="6781680" y="1334880"/>
              <a:chExt cx="838080" cy="838080"/>
            </a:xfrm>
          </p:grpSpPr>
          <p:sp>
            <p:nvSpPr>
              <p:cNvPr id="371" name=""/>
              <p:cNvSpPr/>
              <p:nvPr/>
            </p:nvSpPr>
            <p:spPr>
              <a:xfrm>
                <a:off x="6781680" y="133488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859080" y="1486440"/>
                <a:ext cx="689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8221680" y="838080"/>
              <a:ext cx="609480" cy="609480"/>
              <a:chOff x="8221680" y="838080"/>
              <a:chExt cx="609480" cy="609480"/>
            </a:xfrm>
          </p:grpSpPr>
          <p:sp>
            <p:nvSpPr>
              <p:cNvPr id="374" name=""/>
              <p:cNvSpPr/>
              <p:nvPr/>
            </p:nvSpPr>
            <p:spPr>
              <a:xfrm>
                <a:off x="8221680" y="83808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308800" y="86724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8221680" y="1981080"/>
              <a:ext cx="609480" cy="609480"/>
              <a:chOff x="8221680" y="1981080"/>
              <a:chExt cx="609480" cy="609480"/>
            </a:xfrm>
          </p:grpSpPr>
          <p:sp>
            <p:nvSpPr>
              <p:cNvPr id="377" name=""/>
              <p:cNvSpPr/>
              <p:nvPr/>
            </p:nvSpPr>
            <p:spPr>
              <a:xfrm>
                <a:off x="8221680" y="198108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308800" y="201024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 rot="1800000">
              <a:off x="7611480" y="190476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 rot="19800000">
              <a:off x="7611480" y="137124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781680" y="2781360"/>
            <a:ext cx="2049480" cy="1752480"/>
            <a:chOff x="6781680" y="2781360"/>
            <a:chExt cx="2049480" cy="1752480"/>
          </a:xfrm>
        </p:grpSpPr>
        <p:grpSp>
          <p:nvGrpSpPr>
            <p:cNvPr id="382" name=""/>
            <p:cNvGrpSpPr/>
            <p:nvPr/>
          </p:nvGrpSpPr>
          <p:grpSpPr>
            <a:xfrm>
              <a:off x="6781680" y="3278160"/>
              <a:ext cx="838080" cy="838080"/>
              <a:chOff x="6781680" y="3278160"/>
              <a:chExt cx="838080" cy="838080"/>
            </a:xfrm>
          </p:grpSpPr>
          <p:sp>
            <p:nvSpPr>
              <p:cNvPr id="383" name=""/>
              <p:cNvSpPr/>
              <p:nvPr/>
            </p:nvSpPr>
            <p:spPr>
              <a:xfrm>
                <a:off x="6781680" y="3278160"/>
                <a:ext cx="838080" cy="8380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78160" y="3421800"/>
                <a:ext cx="6469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8221680" y="2781360"/>
              <a:ext cx="609480" cy="609480"/>
              <a:chOff x="8221680" y="2781360"/>
              <a:chExt cx="609480" cy="609480"/>
            </a:xfrm>
          </p:grpSpPr>
          <p:sp>
            <p:nvSpPr>
              <p:cNvPr id="386" name=""/>
              <p:cNvSpPr/>
              <p:nvPr/>
            </p:nvSpPr>
            <p:spPr>
              <a:xfrm>
                <a:off x="8221680" y="278136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318520" y="281052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8221680" y="3924360"/>
              <a:ext cx="609480" cy="609480"/>
              <a:chOff x="8221680" y="3924360"/>
              <a:chExt cx="609480" cy="609480"/>
            </a:xfrm>
          </p:grpSpPr>
          <p:sp>
            <p:nvSpPr>
              <p:cNvPr id="389" name=""/>
              <p:cNvSpPr/>
              <p:nvPr/>
            </p:nvSpPr>
            <p:spPr>
              <a:xfrm>
                <a:off x="8221680" y="392436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318520" y="395352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 rot="1800000">
              <a:off x="7611480" y="384804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 rot="19800000">
              <a:off x="7611480" y="331452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6781680" y="4724280"/>
            <a:ext cx="2049480" cy="1752480"/>
            <a:chOff x="6781680" y="4724280"/>
            <a:chExt cx="2049480" cy="1752480"/>
          </a:xfrm>
        </p:grpSpPr>
        <p:grpSp>
          <p:nvGrpSpPr>
            <p:cNvPr id="394" name=""/>
            <p:cNvGrpSpPr/>
            <p:nvPr/>
          </p:nvGrpSpPr>
          <p:grpSpPr>
            <a:xfrm>
              <a:off x="6781680" y="5221080"/>
              <a:ext cx="838080" cy="838080"/>
              <a:chOff x="6781680" y="5221080"/>
              <a:chExt cx="838080" cy="838080"/>
            </a:xfrm>
          </p:grpSpPr>
          <p:sp>
            <p:nvSpPr>
              <p:cNvPr id="395" name=""/>
              <p:cNvSpPr/>
              <p:nvPr/>
            </p:nvSpPr>
            <p:spPr>
              <a:xfrm>
                <a:off x="6781680" y="522108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68800" y="537264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8221680" y="4724280"/>
              <a:ext cx="609480" cy="609480"/>
              <a:chOff x="8221680" y="4724280"/>
              <a:chExt cx="609480" cy="609480"/>
            </a:xfrm>
          </p:grpSpPr>
          <p:sp>
            <p:nvSpPr>
              <p:cNvPr id="398" name=""/>
              <p:cNvSpPr/>
              <p:nvPr/>
            </p:nvSpPr>
            <p:spPr>
              <a:xfrm>
                <a:off x="8221680" y="472428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308800" y="475344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8221680" y="5867280"/>
              <a:ext cx="609480" cy="609480"/>
              <a:chOff x="8221680" y="5867280"/>
              <a:chExt cx="609480" cy="609480"/>
            </a:xfrm>
          </p:grpSpPr>
          <p:sp>
            <p:nvSpPr>
              <p:cNvPr id="401" name=""/>
              <p:cNvSpPr/>
              <p:nvPr/>
            </p:nvSpPr>
            <p:spPr>
              <a:xfrm>
                <a:off x="8221680" y="586728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318520" y="589644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 rot="1800000">
              <a:off x="7611480" y="579096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 rot="19800000">
              <a:off x="7611480" y="525744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0" y="5105520"/>
            <a:ext cx="2590920" cy="1828800"/>
            <a:chOff x="0" y="5105520"/>
            <a:chExt cx="2590920" cy="1828800"/>
          </a:xfrm>
        </p:grpSpPr>
        <p:sp>
          <p:nvSpPr>
            <p:cNvPr id="406" name=""/>
            <p:cNvSpPr/>
            <p:nvPr/>
          </p:nvSpPr>
          <p:spPr>
            <a:xfrm>
              <a:off x="0" y="5105520"/>
              <a:ext cx="2590920" cy="182880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524160" y="5410080"/>
              <a:ext cx="677520" cy="1295640"/>
              <a:chOff x="524160" y="5410080"/>
              <a:chExt cx="677520" cy="1295640"/>
            </a:xfrm>
          </p:grpSpPr>
          <p:grpSp>
            <p:nvGrpSpPr>
              <p:cNvPr id="408" name=""/>
              <p:cNvGrpSpPr/>
              <p:nvPr/>
            </p:nvGrpSpPr>
            <p:grpSpPr>
              <a:xfrm>
                <a:off x="914400" y="5410080"/>
                <a:ext cx="287280" cy="1295640"/>
                <a:chOff x="914400" y="5410080"/>
                <a:chExt cx="287280" cy="1295640"/>
              </a:xfrm>
            </p:grpSpPr>
            <p:sp>
              <p:nvSpPr>
                <p:cNvPr id="409" name=""/>
                <p:cNvSpPr/>
                <p:nvPr/>
              </p:nvSpPr>
              <p:spPr>
                <a:xfrm flipH="1">
                  <a:off x="914400" y="5410080"/>
                  <a:ext cx="277920" cy="129564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028880" y="5502240"/>
                  <a:ext cx="83880" cy="9360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1090800" y="6532920"/>
                  <a:ext cx="110880" cy="5724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524160" y="5410080"/>
                <a:ext cx="286920" cy="1295640"/>
                <a:chOff x="524160" y="5410080"/>
                <a:chExt cx="286920" cy="12956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533520" y="5410080"/>
                  <a:ext cx="277560" cy="129564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H="1">
                  <a:off x="613080" y="5502240"/>
                  <a:ext cx="83520" cy="9360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 flipV="1">
                  <a:off x="524160" y="6532920"/>
                  <a:ext cx="110520" cy="5724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6" name=""/>
            <p:cNvGrpSpPr/>
            <p:nvPr/>
          </p:nvGrpSpPr>
          <p:grpSpPr>
            <a:xfrm>
              <a:off x="1362240" y="5410080"/>
              <a:ext cx="677520" cy="1295640"/>
              <a:chOff x="1362240" y="5410080"/>
              <a:chExt cx="677520" cy="129564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1752480" y="5410080"/>
                <a:ext cx="287280" cy="1295640"/>
                <a:chOff x="1752480" y="5410080"/>
                <a:chExt cx="287280" cy="1295640"/>
              </a:xfrm>
            </p:grpSpPr>
            <p:sp>
              <p:nvSpPr>
                <p:cNvPr id="418" name=""/>
                <p:cNvSpPr/>
                <p:nvPr/>
              </p:nvSpPr>
              <p:spPr>
                <a:xfrm flipH="1">
                  <a:off x="1752480" y="5410080"/>
                  <a:ext cx="277920" cy="129564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866960" y="5502240"/>
                  <a:ext cx="84240" cy="9360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1928880" y="6532920"/>
                  <a:ext cx="110880" cy="5724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1362240" y="5410080"/>
                <a:ext cx="287280" cy="1295640"/>
                <a:chOff x="1362240" y="5410080"/>
                <a:chExt cx="287280" cy="129564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1371600" y="5410080"/>
                  <a:ext cx="277920" cy="129564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>
                  <a:off x="1450800" y="5502240"/>
                  <a:ext cx="84240" cy="9360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H="1" flipV="1">
                  <a:off x="1362240" y="6532920"/>
                  <a:ext cx="110880" cy="5724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25" name=""/>
          <p:cNvGrpSpPr/>
          <p:nvPr/>
        </p:nvGrpSpPr>
        <p:grpSpPr>
          <a:xfrm>
            <a:off x="2593440" y="5496480"/>
            <a:ext cx="604080" cy="970200"/>
            <a:chOff x="2593440" y="5496480"/>
            <a:chExt cx="604080" cy="970200"/>
          </a:xfrm>
        </p:grpSpPr>
        <p:sp>
          <p:nvSpPr>
            <p:cNvPr id="426" name=""/>
            <p:cNvSpPr/>
            <p:nvPr/>
          </p:nvSpPr>
          <p:spPr>
            <a:xfrm rot="1800000">
              <a:off x="2590560" y="617184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 rot="19800000">
              <a:off x="2590560" y="563868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200400" y="5105520"/>
            <a:ext cx="1371600" cy="1752480"/>
            <a:chOff x="3200400" y="5105520"/>
            <a:chExt cx="1371600" cy="1752480"/>
          </a:xfrm>
        </p:grpSpPr>
        <p:sp>
          <p:nvSpPr>
            <p:cNvPr id="429" name=""/>
            <p:cNvSpPr/>
            <p:nvPr/>
          </p:nvSpPr>
          <p:spPr>
            <a:xfrm rot="16200000">
              <a:off x="3009960" y="5295960"/>
              <a:ext cx="1752480" cy="137160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3522960" y="5334120"/>
              <a:ext cx="677520" cy="1295280"/>
              <a:chOff x="3522960" y="5334120"/>
              <a:chExt cx="677520" cy="129528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3913200" y="5334120"/>
                <a:ext cx="287280" cy="1295280"/>
                <a:chOff x="3913200" y="5334120"/>
                <a:chExt cx="287280" cy="1295280"/>
              </a:xfrm>
            </p:grpSpPr>
            <p:sp>
              <p:nvSpPr>
                <p:cNvPr id="432" name=""/>
                <p:cNvSpPr/>
                <p:nvPr/>
              </p:nvSpPr>
              <p:spPr>
                <a:xfrm flipH="1">
                  <a:off x="3913200" y="5334120"/>
                  <a:ext cx="27792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027680" y="5425920"/>
                  <a:ext cx="83880" cy="9324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V="1">
                  <a:off x="4089600" y="6456960"/>
                  <a:ext cx="110880" cy="5688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3522960" y="5334120"/>
                <a:ext cx="286920" cy="1295280"/>
                <a:chOff x="3522960" y="5334120"/>
                <a:chExt cx="286920" cy="129528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3532320" y="5334120"/>
                  <a:ext cx="27756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H="1">
                  <a:off x="3611880" y="5425920"/>
                  <a:ext cx="83520" cy="93240"/>
                </a:xfrm>
                <a:prstGeom prst="line">
                  <a:avLst/>
                </a:prstGeom>
                <a:ln w="76320">
                  <a:solidFill>
                    <a:srgbClr val="ffea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H="1" flipV="1">
                  <a:off x="3522960" y="6456960"/>
                  <a:ext cx="110520" cy="56880"/>
                </a:xfrm>
                <a:prstGeom prst="line">
                  <a:avLst/>
                </a:prstGeom>
                <a:ln w="76320">
                  <a:solidFill>
                    <a:srgbClr val="85d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39" name=""/>
          <p:cNvGrpSpPr/>
          <p:nvPr/>
        </p:nvGrpSpPr>
        <p:grpSpPr>
          <a:xfrm>
            <a:off x="4800600" y="5105520"/>
            <a:ext cx="1371600" cy="1752480"/>
            <a:chOff x="4800600" y="5105520"/>
            <a:chExt cx="1371600" cy="1752480"/>
          </a:xfrm>
        </p:grpSpPr>
        <p:sp>
          <p:nvSpPr>
            <p:cNvPr id="440" name=""/>
            <p:cNvSpPr/>
            <p:nvPr/>
          </p:nvSpPr>
          <p:spPr>
            <a:xfrm rot="16200000">
              <a:off x="4610160" y="5295960"/>
              <a:ext cx="1752480" cy="137160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5172120" y="5334120"/>
              <a:ext cx="677520" cy="1295280"/>
              <a:chOff x="5172120" y="5334120"/>
              <a:chExt cx="677520" cy="1295280"/>
            </a:xfrm>
          </p:grpSpPr>
          <p:grpSp>
            <p:nvGrpSpPr>
              <p:cNvPr id="442" name=""/>
              <p:cNvGrpSpPr/>
              <p:nvPr/>
            </p:nvGrpSpPr>
            <p:grpSpPr>
              <a:xfrm>
                <a:off x="5562360" y="5334120"/>
                <a:ext cx="287280" cy="1295280"/>
                <a:chOff x="5562360" y="5334120"/>
                <a:chExt cx="287280" cy="1295280"/>
              </a:xfrm>
            </p:grpSpPr>
            <p:sp>
              <p:nvSpPr>
                <p:cNvPr id="443" name=""/>
                <p:cNvSpPr/>
                <p:nvPr/>
              </p:nvSpPr>
              <p:spPr>
                <a:xfrm flipH="1">
                  <a:off x="5562360" y="5334120"/>
                  <a:ext cx="27792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676840" y="5425920"/>
                  <a:ext cx="84240" cy="9324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V="1">
                  <a:off x="5738760" y="6456960"/>
                  <a:ext cx="110880" cy="5688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5172120" y="5334120"/>
                <a:ext cx="287280" cy="1295280"/>
                <a:chOff x="5172120" y="5334120"/>
                <a:chExt cx="287280" cy="129528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181480" y="5334120"/>
                  <a:ext cx="27792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1344">
                      <a:moveTo>
                        <a:pt x="0" y="0"/>
                      </a:moveTo>
                      <a:cubicBezTo>
                        <a:pt x="144" y="152"/>
                        <a:pt x="288" y="304"/>
                        <a:pt x="288" y="528"/>
                      </a:cubicBezTo>
                      <a:cubicBezTo>
                        <a:pt x="288" y="752"/>
                        <a:pt x="48" y="1208"/>
                        <a:pt x="0" y="1344"/>
                      </a:cubicBezTo>
                    </a:path>
                  </a:pathLst>
                </a:custGeom>
                <a:noFill/>
                <a:ln w="15228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>
                  <a:off x="5260680" y="5425920"/>
                  <a:ext cx="84240" cy="93240"/>
                </a:xfrm>
                <a:prstGeom prst="line">
                  <a:avLst/>
                </a:prstGeom>
                <a:ln w="76320">
                  <a:solidFill>
                    <a:srgbClr val="ff94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 flipV="1">
                  <a:off x="5172120" y="6456960"/>
                  <a:ext cx="110880" cy="56880"/>
                </a:xfrm>
                <a:prstGeom prst="line">
                  <a:avLst/>
                </a:prstGeom>
                <a:ln w="7632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50" name=""/>
          <p:cNvGrpSpPr/>
          <p:nvPr/>
        </p:nvGrpSpPr>
        <p:grpSpPr>
          <a:xfrm>
            <a:off x="3865680" y="4876920"/>
            <a:ext cx="1636560" cy="2133360"/>
            <a:chOff x="3865680" y="4876920"/>
            <a:chExt cx="1636560" cy="2133360"/>
          </a:xfrm>
        </p:grpSpPr>
        <p:sp>
          <p:nvSpPr>
            <p:cNvPr id="451" name=""/>
            <p:cNvSpPr/>
            <p:nvPr/>
          </p:nvSpPr>
          <p:spPr>
            <a:xfrm>
              <a:off x="3865680" y="4876920"/>
              <a:ext cx="0" cy="2133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02240" y="4876920"/>
              <a:ext cx="0" cy="2133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3162240" y="4724280"/>
            <a:ext cx="3505320" cy="2133720"/>
            <a:chOff x="3162240" y="4724280"/>
            <a:chExt cx="3505320" cy="2133720"/>
          </a:xfrm>
        </p:grpSpPr>
        <p:sp>
          <p:nvSpPr>
            <p:cNvPr id="454" name=""/>
            <p:cNvSpPr/>
            <p:nvPr/>
          </p:nvSpPr>
          <p:spPr>
            <a:xfrm>
              <a:off x="3162240" y="4724280"/>
              <a:ext cx="3505320" cy="21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3200400" y="5105520"/>
              <a:ext cx="3352680" cy="1752480"/>
              <a:chOff x="3200400" y="5105520"/>
              <a:chExt cx="3352680" cy="175248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3200400" y="5105520"/>
                <a:ext cx="838080" cy="1752480"/>
                <a:chOff x="3200400" y="5105520"/>
                <a:chExt cx="838080" cy="1752480"/>
              </a:xfrm>
            </p:grpSpPr>
            <p:sp>
              <p:nvSpPr>
                <p:cNvPr id="457" name=""/>
                <p:cNvSpPr/>
                <p:nvPr/>
              </p:nvSpPr>
              <p:spPr>
                <a:xfrm rot="16200000">
                  <a:off x="2743200" y="5562720"/>
                  <a:ext cx="1752480" cy="83808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3495960" y="5334120"/>
                  <a:ext cx="286920" cy="1295280"/>
                  <a:chOff x="3495960" y="5334120"/>
                  <a:chExt cx="286920" cy="129528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3505320" y="5334120"/>
                    <a:ext cx="277560" cy="129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>
                    <a:off x="3584880" y="5425920"/>
                    <a:ext cx="83520" cy="93240"/>
                  </a:xfrm>
                  <a:prstGeom prst="line">
                    <a:avLst/>
                  </a:prstGeom>
                  <a:ln w="76320">
                    <a:solidFill>
                      <a:srgbClr val="ffea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 flipV="1">
                    <a:off x="3495960" y="6456960"/>
                    <a:ext cx="110520" cy="56880"/>
                  </a:xfrm>
                  <a:prstGeom prst="line">
                    <a:avLst/>
                  </a:prstGeom>
                  <a:ln w="76320">
                    <a:solidFill>
                      <a:srgbClr val="85dab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2" name=""/>
              <p:cNvGrpSpPr/>
              <p:nvPr/>
            </p:nvGrpSpPr>
            <p:grpSpPr>
              <a:xfrm>
                <a:off x="4038480" y="5105520"/>
                <a:ext cx="838440" cy="1752480"/>
                <a:chOff x="4038480" y="5105520"/>
                <a:chExt cx="838440" cy="1752480"/>
              </a:xfrm>
            </p:grpSpPr>
            <p:sp>
              <p:nvSpPr>
                <p:cNvPr id="463" name=""/>
                <p:cNvSpPr/>
                <p:nvPr/>
              </p:nvSpPr>
              <p:spPr>
                <a:xfrm rot="16200000">
                  <a:off x="3581280" y="5562360"/>
                  <a:ext cx="1752480" cy="83844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4" name=""/>
                <p:cNvGrpSpPr/>
                <p:nvPr/>
              </p:nvGrpSpPr>
              <p:grpSpPr>
                <a:xfrm>
                  <a:off x="4294080" y="5334120"/>
                  <a:ext cx="287280" cy="1295280"/>
                  <a:chOff x="4294080" y="5334120"/>
                  <a:chExt cx="287280" cy="129528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flipH="1">
                    <a:off x="4294080" y="5334120"/>
                    <a:ext cx="277920" cy="129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40458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4408560" y="5425920"/>
                    <a:ext cx="83880" cy="93240"/>
                  </a:xfrm>
                  <a:prstGeom prst="line">
                    <a:avLst/>
                  </a:prstGeom>
                  <a:ln w="76320">
                    <a:solidFill>
                      <a:srgbClr val="ffea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flipV="1">
                    <a:off x="4470480" y="6456960"/>
                    <a:ext cx="110880" cy="56880"/>
                  </a:xfrm>
                  <a:prstGeom prst="line">
                    <a:avLst/>
                  </a:prstGeom>
                  <a:ln w="76320">
                    <a:solidFill>
                      <a:srgbClr val="85dab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8" name=""/>
              <p:cNvGrpSpPr/>
              <p:nvPr/>
            </p:nvGrpSpPr>
            <p:grpSpPr>
              <a:xfrm>
                <a:off x="5715000" y="5105520"/>
                <a:ext cx="838080" cy="1752480"/>
                <a:chOff x="5715000" y="5105520"/>
                <a:chExt cx="838080" cy="1752480"/>
              </a:xfrm>
            </p:grpSpPr>
            <p:sp>
              <p:nvSpPr>
                <p:cNvPr id="469" name=""/>
                <p:cNvSpPr/>
                <p:nvPr/>
              </p:nvSpPr>
              <p:spPr>
                <a:xfrm rot="16200000">
                  <a:off x="5257800" y="5562720"/>
                  <a:ext cx="1752480" cy="83808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0" name=""/>
                <p:cNvGrpSpPr/>
                <p:nvPr/>
              </p:nvGrpSpPr>
              <p:grpSpPr>
                <a:xfrm>
                  <a:off x="5970600" y="5334120"/>
                  <a:ext cx="287280" cy="1295280"/>
                  <a:chOff x="5970600" y="5334120"/>
                  <a:chExt cx="287280" cy="129528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flipH="1">
                    <a:off x="5970600" y="5334120"/>
                    <a:ext cx="277920" cy="129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6085080" y="5425920"/>
                    <a:ext cx="84240" cy="93240"/>
                  </a:xfrm>
                  <a:prstGeom prst="line">
                    <a:avLst/>
                  </a:prstGeom>
                  <a:ln w="76320">
                    <a:solidFill>
                      <a:srgbClr val="ff94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flipV="1">
                    <a:off x="6147000" y="6456960"/>
                    <a:ext cx="110880" cy="56880"/>
                  </a:xfrm>
                  <a:prstGeom prst="line">
                    <a:avLst/>
                  </a:prstGeom>
                  <a:ln w="7632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4" name=""/>
              <p:cNvGrpSpPr/>
              <p:nvPr/>
            </p:nvGrpSpPr>
            <p:grpSpPr>
              <a:xfrm>
                <a:off x="4876920" y="5105520"/>
                <a:ext cx="838080" cy="1752480"/>
                <a:chOff x="4876920" y="5105520"/>
                <a:chExt cx="838080" cy="1752480"/>
              </a:xfrm>
            </p:grpSpPr>
            <p:sp>
              <p:nvSpPr>
                <p:cNvPr id="475" name=""/>
                <p:cNvSpPr/>
                <p:nvPr/>
              </p:nvSpPr>
              <p:spPr>
                <a:xfrm rot="16200000">
                  <a:off x="4419720" y="5562720"/>
                  <a:ext cx="1752480" cy="838080"/>
                </a:xfrm>
                <a:prstGeom prst="ellipse">
                  <a:avLst/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6" name=""/>
                <p:cNvGrpSpPr/>
                <p:nvPr/>
              </p:nvGrpSpPr>
              <p:grpSpPr>
                <a:xfrm>
                  <a:off x="5172120" y="5334120"/>
                  <a:ext cx="287280" cy="1295280"/>
                  <a:chOff x="5172120" y="5334120"/>
                  <a:chExt cx="287280" cy="129528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>
                    <a:off x="5181480" y="5334120"/>
                    <a:ext cx="277920" cy="129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344">
                        <a:moveTo>
                          <a:pt x="0" y="0"/>
                        </a:moveTo>
                        <a:cubicBezTo>
                          <a:pt x="144" y="152"/>
                          <a:pt x="288" y="304"/>
                          <a:pt x="288" y="528"/>
                        </a:cubicBezTo>
                        <a:cubicBezTo>
                          <a:pt x="288" y="752"/>
                          <a:pt x="48" y="1208"/>
                          <a:pt x="0" y="1344"/>
                        </a:cubicBezTo>
                      </a:path>
                    </a:pathLst>
                  </a:custGeom>
                  <a:noFill/>
                  <a:ln w="15228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flipH="1">
                    <a:off x="5260680" y="5425920"/>
                    <a:ext cx="84240" cy="93240"/>
                  </a:xfrm>
                  <a:prstGeom prst="line">
                    <a:avLst/>
                  </a:prstGeom>
                  <a:ln w="76320">
                    <a:solidFill>
                      <a:srgbClr val="ff94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flipH="1" flipV="1">
                    <a:off x="5172120" y="6456960"/>
                    <a:ext cx="110880" cy="56880"/>
                  </a:xfrm>
                  <a:prstGeom prst="line">
                    <a:avLst/>
                  </a:prstGeom>
                  <a:ln w="76320">
                    <a:solidFill>
                      <a:srgbClr val="8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80" name=""/>
          <p:cNvSpPr/>
          <p:nvPr/>
        </p:nvSpPr>
        <p:spPr>
          <a:xfrm>
            <a:off x="1295280" y="495288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8A0A-BD38-490E-AF16-137BC3CE5946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4078440" y="1523880"/>
            <a:ext cx="5065560" cy="533412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w of Segreg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4267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meiotic event creates the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aw of segregation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666520" y="3962160"/>
            <a:ext cx="2210040" cy="838080"/>
            <a:chOff x="2666520" y="3962160"/>
            <a:chExt cx="2210040" cy="838080"/>
          </a:xfrm>
        </p:grpSpPr>
        <p:sp>
          <p:nvSpPr>
            <p:cNvPr id="486" name=""/>
            <p:cNvSpPr/>
            <p:nvPr/>
          </p:nvSpPr>
          <p:spPr>
            <a:xfrm>
              <a:off x="2742840" y="4267080"/>
              <a:ext cx="2133720" cy="533160"/>
            </a:xfrm>
            <a:custGeom>
              <a:avLst/>
              <a:gdLst>
                <a:gd name="textAreaLeft" fmla="*/ 333360 w 2133720"/>
                <a:gd name="textAreaRight" fmla="*/ 1867320 w 2133720"/>
                <a:gd name="textAreaTop" fmla="*/ 133200 h 533160"/>
                <a:gd name="textAreaBottom" fmla="*/ 3999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66520" y="3962160"/>
              <a:ext cx="1671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Meiosis 1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151920" y="3809880"/>
            <a:ext cx="2133720" cy="2971800"/>
            <a:chOff x="151920" y="3809880"/>
            <a:chExt cx="2133720" cy="2971800"/>
          </a:xfrm>
        </p:grpSpPr>
        <p:pic>
          <p:nvPicPr>
            <p:cNvPr id="489" name="" descr=""/>
            <p:cNvPicPr/>
            <p:nvPr/>
          </p:nvPicPr>
          <p:blipFill>
            <a:blip r:embed="rId2"/>
            <a:stretch/>
          </p:blipFill>
          <p:spPr>
            <a:xfrm flipH="1">
              <a:off x="151920" y="5486400"/>
              <a:ext cx="1274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 flipH="1">
              <a:off x="151560" y="3809880"/>
              <a:ext cx="2133720" cy="1219320"/>
            </a:xfrm>
            <a:prstGeom prst="wedgeEllipseCallout">
              <a:avLst>
                <a:gd name="adj1" fmla="val 4162"/>
                <a:gd name="adj2" fmla="val 102861"/>
              </a:avLst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And Mendel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didn’t even know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DNA or genes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existed!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7E9A-F4AF-42A5-85BC-C3542BFE7B39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regor Mende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632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dern genetics began in the mid-1800s in an abbey garden, where a monk named Gregor Mendel documented inheritance in pea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used experimental metho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used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quantitative analysi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llected data &amp; counted them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xcellent example of scientific metho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 flipH="1">
            <a:off x="7089480" y="380880"/>
            <a:ext cx="1893960" cy="2895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985C-CCD5-44D6-8196-047C8A3D4634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ono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me of Mendel’s experiments followed the inheritance of single character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lower colo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ed color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onohybri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cross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1066680" y="4495680"/>
            <a:ext cx="7010640" cy="23068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E581-01FE-4DF7-8ACD-7F9CA7F798EE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rcRect l="15750" t="2252" r="15750" b="0"/>
          <a:stretch/>
        </p:blipFill>
        <p:spPr>
          <a:xfrm>
            <a:off x="5214960" y="1371600"/>
            <a:ext cx="3929040" cy="420696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47246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ther of Mendel’s experiments followed the inheritance of 2 different character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ed color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ed shap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ihybri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cross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04560" y="5181480"/>
            <a:ext cx="4647960" cy="1600200"/>
            <a:chOff x="304560" y="5181480"/>
            <a:chExt cx="4647960" cy="1600200"/>
          </a:xfrm>
        </p:grpSpPr>
        <p:pic>
          <p:nvPicPr>
            <p:cNvPr id="500" name="" descr=""/>
            <p:cNvPicPr/>
            <p:nvPr/>
          </p:nvPicPr>
          <p:blipFill>
            <a:blip r:embed="rId2"/>
            <a:stretch/>
          </p:blipFill>
          <p:spPr>
            <a:xfrm flipH="1">
              <a:off x="304560" y="5486400"/>
              <a:ext cx="1274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 flipH="1">
              <a:off x="2513880" y="5181480"/>
              <a:ext cx="2438280" cy="1524240"/>
            </a:xfrm>
            <a:prstGeom prst="wedgeEllipseCallout">
              <a:avLst>
                <a:gd name="adj1" fmla="val 100842"/>
                <a:gd name="adj2" fmla="val -7296"/>
              </a:avLst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This helped Mendel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understand other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genetic “rules”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65D3-9C5C-45DE-92B1-9AA7A6227559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14640" y="1598400"/>
            <a:ext cx="26953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ue-breedin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yellow, round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08320" y="16765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69520" y="1598400"/>
            <a:ext cx="29437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ue-breedin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green, wrinkled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17880" y="1729800"/>
            <a:ext cx="3650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651840" y="2040840"/>
            <a:ext cx="124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93360" y="204084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03960" y="1714680"/>
            <a:ext cx="457200" cy="380880"/>
            <a:chOff x="5403960" y="1714680"/>
            <a:chExt cx="457200" cy="380880"/>
          </a:xfrm>
        </p:grpSpPr>
        <p:sp>
          <p:nvSpPr>
            <p:cNvPr id="511" name=""/>
            <p:cNvSpPr/>
            <p:nvPr/>
          </p:nvSpPr>
          <p:spPr>
            <a:xfrm>
              <a:off x="5403960" y="1790640"/>
              <a:ext cx="15228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479920" y="17146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08520" y="1866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08520" y="1790640"/>
              <a:ext cx="15264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2560" y="17146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79920" y="1866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32560" y="19432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479920" y="19432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56240" y="1790640"/>
              <a:ext cx="228600" cy="2286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4881600" y="236232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8440" y="6321600"/>
            <a:ext cx="19051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10920" y="1641240"/>
            <a:ext cx="435240" cy="4136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490640" y="402192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609840" y="3260160"/>
            <a:ext cx="8319240" cy="1015560"/>
            <a:chOff x="609840" y="3260160"/>
            <a:chExt cx="8319240" cy="1015560"/>
          </a:xfrm>
        </p:grpSpPr>
        <p:sp>
          <p:nvSpPr>
            <p:cNvPr id="525" name=""/>
            <p:cNvSpPr/>
            <p:nvPr/>
          </p:nvSpPr>
          <p:spPr>
            <a:xfrm>
              <a:off x="7774560" y="3504960"/>
              <a:ext cx="1154520" cy="41364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100%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09840" y="3265200"/>
              <a:ext cx="1482120" cy="101052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(hybrids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2660760" y="3641760"/>
              <a:ext cx="4724280" cy="457200"/>
              <a:chOff x="2660760" y="3641760"/>
              <a:chExt cx="4724280" cy="457200"/>
            </a:xfrm>
          </p:grpSpPr>
          <p:sp>
            <p:nvSpPr>
              <p:cNvPr id="528" name=""/>
              <p:cNvSpPr/>
              <p:nvPr/>
            </p:nvSpPr>
            <p:spPr>
              <a:xfrm>
                <a:off x="4794120" y="3641760"/>
                <a:ext cx="457200" cy="4572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327640" y="3641760"/>
                <a:ext cx="457200" cy="4572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861160" y="3641760"/>
                <a:ext cx="457200" cy="4572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394320" y="3641760"/>
                <a:ext cx="457200" cy="4572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660760" y="3641760"/>
                <a:ext cx="457200" cy="4572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93920" y="3641760"/>
                <a:ext cx="457200" cy="4572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727440" y="3641760"/>
                <a:ext cx="457200" cy="4572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260960" y="3641760"/>
                <a:ext cx="457200" cy="4572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27840" y="3641760"/>
                <a:ext cx="457200" cy="4572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3659400" y="3260160"/>
              <a:ext cx="26953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yellow, round pea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229680" y="4572000"/>
            <a:ext cx="4880520" cy="685800"/>
            <a:chOff x="229680" y="4572000"/>
            <a:chExt cx="4880520" cy="685800"/>
          </a:xfrm>
        </p:grpSpPr>
        <p:sp>
          <p:nvSpPr>
            <p:cNvPr id="539" name=""/>
            <p:cNvSpPr/>
            <p:nvPr/>
          </p:nvSpPr>
          <p:spPr>
            <a:xfrm>
              <a:off x="4881600" y="4572000"/>
              <a:ext cx="228600" cy="685800"/>
            </a:xfrm>
            <a:prstGeom prst="downArrow">
              <a:avLst>
                <a:gd name="adj1" fmla="val 50000"/>
                <a:gd name="adj2" fmla="val 75000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229680" y="4648320"/>
              <a:ext cx="1980000" cy="609480"/>
              <a:chOff x="229680" y="4648320"/>
              <a:chExt cx="1980000" cy="609480"/>
            </a:xfrm>
          </p:grpSpPr>
          <p:sp>
            <p:nvSpPr>
              <p:cNvPr id="541" name=""/>
              <p:cNvSpPr/>
              <p:nvPr/>
            </p:nvSpPr>
            <p:spPr>
              <a:xfrm>
                <a:off x="304920" y="4648320"/>
                <a:ext cx="1904760" cy="609480"/>
              </a:xfrm>
              <a:prstGeom prst="rightArrow">
                <a:avLst>
                  <a:gd name="adj1" fmla="val 50000"/>
                  <a:gd name="adj2" fmla="val 78131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29680" y="4739400"/>
                <a:ext cx="190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self-pollinate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3" name=""/>
          <p:cNvGrpSpPr/>
          <p:nvPr/>
        </p:nvGrpSpPr>
        <p:grpSpPr>
          <a:xfrm>
            <a:off x="609840" y="5763960"/>
            <a:ext cx="6567120" cy="865440"/>
            <a:chOff x="609840" y="5763960"/>
            <a:chExt cx="6567120" cy="865440"/>
          </a:xfrm>
        </p:grpSpPr>
        <p:sp>
          <p:nvSpPr>
            <p:cNvPr id="544" name=""/>
            <p:cNvSpPr/>
            <p:nvPr/>
          </p:nvSpPr>
          <p:spPr>
            <a:xfrm>
              <a:off x="609840" y="5763960"/>
              <a:ext cx="1482120" cy="73404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617220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038480" y="6172200"/>
              <a:ext cx="457200" cy="4572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5424480" y="6248520"/>
              <a:ext cx="457200" cy="380880"/>
              <a:chOff x="5424480" y="6248520"/>
              <a:chExt cx="457200" cy="380880"/>
            </a:xfrm>
          </p:grpSpPr>
          <p:sp>
            <p:nvSpPr>
              <p:cNvPr id="548" name=""/>
              <p:cNvSpPr/>
              <p:nvPr/>
            </p:nvSpPr>
            <p:spPr>
              <a:xfrm>
                <a:off x="5424480" y="63248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500800" y="62485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729400" y="64008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729400" y="63248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653080" y="62485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500800" y="64008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653080" y="6477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500800" y="6477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576760" y="6324840"/>
                <a:ext cx="228600" cy="2286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6719760" y="6248520"/>
              <a:ext cx="457200" cy="380880"/>
              <a:chOff x="6719760" y="6248520"/>
              <a:chExt cx="457200" cy="380880"/>
            </a:xfrm>
          </p:grpSpPr>
          <p:sp>
            <p:nvSpPr>
              <p:cNvPr id="558" name=""/>
              <p:cNvSpPr/>
              <p:nvPr/>
            </p:nvSpPr>
            <p:spPr>
              <a:xfrm>
                <a:off x="6719760" y="6324480"/>
                <a:ext cx="15228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795720" y="624852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024320" y="64008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024320" y="6324480"/>
                <a:ext cx="15264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948360" y="624852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795720" y="64008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948360" y="647712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795720" y="647712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872040" y="6324480"/>
                <a:ext cx="228600" cy="2286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2514600" y="5069520"/>
            <a:ext cx="6571080" cy="1107000"/>
            <a:chOff x="2514600" y="5069520"/>
            <a:chExt cx="6571080" cy="1107000"/>
          </a:xfrm>
        </p:grpSpPr>
        <p:sp>
          <p:nvSpPr>
            <p:cNvPr id="568" name=""/>
            <p:cNvSpPr/>
            <p:nvPr/>
          </p:nvSpPr>
          <p:spPr>
            <a:xfrm>
              <a:off x="2514600" y="5069520"/>
              <a:ext cx="1052640" cy="11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9/16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round 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ea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78080" y="5374800"/>
              <a:ext cx="1407600" cy="41364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9:3:3:1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784680" y="5069520"/>
              <a:ext cx="1052280" cy="11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round 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ea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92840" y="5069520"/>
              <a:ext cx="1331640" cy="11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ea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88120" y="5069520"/>
              <a:ext cx="1332000" cy="11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1/16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ea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1828800" y="2209680"/>
            <a:ext cx="1294920" cy="64260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Y = yello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R = roun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1880" y="2209680"/>
            <a:ext cx="1459440" cy="64260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y = gree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r = wrinkle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7066-0046-4EC9-8A28-497BD639BE37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’s going on her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ow are the alleles on different chromosomes handed out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gether or separately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1257480" y="2933640"/>
            <a:ext cx="1143000" cy="1143000"/>
            <a:chOff x="1257480" y="2933640"/>
            <a:chExt cx="1143000" cy="1143000"/>
          </a:xfrm>
        </p:grpSpPr>
        <p:sp>
          <p:nvSpPr>
            <p:cNvPr id="579" name=""/>
            <p:cNvSpPr/>
            <p:nvPr/>
          </p:nvSpPr>
          <p:spPr>
            <a:xfrm>
              <a:off x="1257480" y="2933640"/>
              <a:ext cx="1143000" cy="114300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93840" y="3229920"/>
              <a:ext cx="1070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yR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838080" y="4876920"/>
            <a:ext cx="1981080" cy="838080"/>
            <a:chOff x="838080" y="4876920"/>
            <a:chExt cx="1981080" cy="838080"/>
          </a:xfrm>
        </p:grpSpPr>
        <p:grpSp>
          <p:nvGrpSpPr>
            <p:cNvPr id="582" name=""/>
            <p:cNvGrpSpPr/>
            <p:nvPr/>
          </p:nvGrpSpPr>
          <p:grpSpPr>
            <a:xfrm>
              <a:off x="838080" y="4876920"/>
              <a:ext cx="838080" cy="838080"/>
              <a:chOff x="838080" y="4876920"/>
              <a:chExt cx="838080" cy="838080"/>
            </a:xfrm>
          </p:grpSpPr>
          <p:sp>
            <p:nvSpPr>
              <p:cNvPr id="583" name=""/>
              <p:cNvSpPr/>
              <p:nvPr/>
            </p:nvSpPr>
            <p:spPr>
              <a:xfrm>
                <a:off x="838080" y="4876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905400" y="5028480"/>
                <a:ext cx="711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1981080" y="4876920"/>
              <a:ext cx="838080" cy="838080"/>
              <a:chOff x="1981080" y="4876920"/>
              <a:chExt cx="838080" cy="838080"/>
            </a:xfrm>
          </p:grpSpPr>
          <p:sp>
            <p:nvSpPr>
              <p:cNvPr id="586" name=""/>
              <p:cNvSpPr/>
              <p:nvPr/>
            </p:nvSpPr>
            <p:spPr>
              <a:xfrm>
                <a:off x="1981080" y="487692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133720" y="5028480"/>
                <a:ext cx="5403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00"/>
                    </a:solidFill>
                    <a:latin typeface="Arial"/>
                  </a:rPr>
                  <a:t>yr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8" name=""/>
          <p:cNvSpPr/>
          <p:nvPr/>
        </p:nvSpPr>
        <p:spPr>
          <a:xfrm>
            <a:off x="1714680" y="415296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5943600" y="2933640"/>
            <a:ext cx="1143000" cy="1143000"/>
            <a:chOff x="5943600" y="2933640"/>
            <a:chExt cx="1143000" cy="1143000"/>
          </a:xfrm>
        </p:grpSpPr>
        <p:sp>
          <p:nvSpPr>
            <p:cNvPr id="590" name=""/>
            <p:cNvSpPr/>
            <p:nvPr/>
          </p:nvSpPr>
          <p:spPr>
            <a:xfrm>
              <a:off x="5943600" y="2933640"/>
              <a:ext cx="1143000" cy="114300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79960" y="3229920"/>
              <a:ext cx="1070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yR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5524560" y="4876920"/>
            <a:ext cx="838080" cy="838080"/>
            <a:chOff x="5524560" y="4876920"/>
            <a:chExt cx="838080" cy="838080"/>
          </a:xfrm>
        </p:grpSpPr>
        <p:sp>
          <p:nvSpPr>
            <p:cNvPr id="593" name=""/>
            <p:cNvSpPr/>
            <p:nvPr/>
          </p:nvSpPr>
          <p:spPr>
            <a:xfrm>
              <a:off x="552456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655600" y="5028480"/>
              <a:ext cx="583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667560" y="4876920"/>
            <a:ext cx="838080" cy="838080"/>
            <a:chOff x="6667560" y="4876920"/>
            <a:chExt cx="838080" cy="838080"/>
          </a:xfrm>
        </p:grpSpPr>
        <p:sp>
          <p:nvSpPr>
            <p:cNvPr id="596" name=""/>
            <p:cNvSpPr/>
            <p:nvPr/>
          </p:nvSpPr>
          <p:spPr>
            <a:xfrm>
              <a:off x="666756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756120" y="50284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400800" y="415296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495680" y="4876920"/>
            <a:ext cx="838080" cy="838080"/>
            <a:chOff x="4495680" y="4876920"/>
            <a:chExt cx="838080" cy="838080"/>
          </a:xfrm>
        </p:grpSpPr>
        <p:sp>
          <p:nvSpPr>
            <p:cNvPr id="600" name=""/>
            <p:cNvSpPr/>
            <p:nvPr/>
          </p:nvSpPr>
          <p:spPr>
            <a:xfrm>
              <a:off x="449568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563000" y="50284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7696080" y="4876920"/>
            <a:ext cx="838080" cy="838080"/>
            <a:chOff x="7696080" y="4876920"/>
            <a:chExt cx="838080" cy="838080"/>
          </a:xfrm>
        </p:grpSpPr>
        <p:sp>
          <p:nvSpPr>
            <p:cNvPr id="603" name=""/>
            <p:cNvSpPr/>
            <p:nvPr/>
          </p:nvSpPr>
          <p:spPr>
            <a:xfrm>
              <a:off x="7696080" y="4876920"/>
              <a:ext cx="838080" cy="838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848720" y="5028480"/>
              <a:ext cx="54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2819520" y="5410080"/>
            <a:ext cx="3961800" cy="1371600"/>
            <a:chOff x="2819520" y="5410080"/>
            <a:chExt cx="3961800" cy="1371600"/>
          </a:xfrm>
        </p:grpSpPr>
        <p:pic>
          <p:nvPicPr>
            <p:cNvPr id="606" name="" descr=""/>
            <p:cNvPicPr/>
            <p:nvPr/>
          </p:nvPicPr>
          <p:blipFill>
            <a:blip r:embed="rId1"/>
            <a:stretch/>
          </p:blipFill>
          <p:spPr>
            <a:xfrm flipH="1">
              <a:off x="2819520" y="5410080"/>
              <a:ext cx="127440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 flipH="1">
              <a:off x="4647960" y="5791320"/>
              <a:ext cx="2133360" cy="990360"/>
            </a:xfrm>
            <a:prstGeom prst="wedgeEllipseCallout">
              <a:avLst>
                <a:gd name="adj1" fmla="val 92782"/>
                <a:gd name="adj2" fmla="val -54972"/>
              </a:avLst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Which system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explains the 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data?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D543-26D9-44F4-ABBE-F919BE4702F2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6934320" y="1447920"/>
            <a:ext cx="2133360" cy="5333760"/>
          </a:xfrm>
          <a:prstGeom prst="rect">
            <a:avLst/>
          </a:prstGeom>
          <a:solidFill>
            <a:srgbClr val="b7c1eb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1523880" y="3048120"/>
          <a:ext cx="5181840" cy="336060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</a:tblGrid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191772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0040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49568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91320" y="31240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17720" y="39625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3200400" y="3962520"/>
            <a:ext cx="457200" cy="380880"/>
            <a:chOff x="3200400" y="3962520"/>
            <a:chExt cx="457200" cy="380880"/>
          </a:xfrm>
        </p:grpSpPr>
        <p:sp>
          <p:nvSpPr>
            <p:cNvPr id="617" name=""/>
            <p:cNvSpPr/>
            <p:nvPr/>
          </p:nvSpPr>
          <p:spPr>
            <a:xfrm>
              <a:off x="320040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27672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0532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50532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42900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7672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42900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27672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52680" y="4038840"/>
              <a:ext cx="228600" cy="2286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4495680" y="39625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17720" y="48769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00400" y="48769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495680" y="4876920"/>
            <a:ext cx="457200" cy="457200"/>
          </a:xfrm>
          <a:prstGeom prst="ellipse">
            <a:avLst/>
          </a:prstGeom>
          <a:solidFill>
            <a:srgbClr val="006301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791320" y="4876920"/>
            <a:ext cx="457200" cy="457200"/>
          </a:xfrm>
          <a:prstGeom prst="ellipse">
            <a:avLst/>
          </a:prstGeom>
          <a:solidFill>
            <a:srgbClr val="006301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17720" y="563868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3200400" y="5638680"/>
            <a:ext cx="457200" cy="380880"/>
            <a:chOff x="3200400" y="5638680"/>
            <a:chExt cx="457200" cy="380880"/>
          </a:xfrm>
        </p:grpSpPr>
        <p:sp>
          <p:nvSpPr>
            <p:cNvPr id="633" name=""/>
            <p:cNvSpPr/>
            <p:nvPr/>
          </p:nvSpPr>
          <p:spPr>
            <a:xfrm>
              <a:off x="3200400" y="571500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276720" y="56386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05320" y="579096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505320" y="571500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429000" y="56386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76720" y="579096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429000" y="58672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276720" y="586728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352680" y="5715000"/>
              <a:ext cx="228600" cy="2286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4495680" y="5638680"/>
            <a:ext cx="457200" cy="457200"/>
          </a:xfrm>
          <a:prstGeom prst="ellipse">
            <a:avLst/>
          </a:prstGeom>
          <a:solidFill>
            <a:srgbClr val="006301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5791320" y="5638680"/>
            <a:ext cx="457200" cy="380880"/>
            <a:chOff x="5791320" y="5638680"/>
            <a:chExt cx="457200" cy="380880"/>
          </a:xfrm>
        </p:grpSpPr>
        <p:sp>
          <p:nvSpPr>
            <p:cNvPr id="644" name=""/>
            <p:cNvSpPr/>
            <p:nvPr/>
          </p:nvSpPr>
          <p:spPr>
            <a:xfrm>
              <a:off x="5791320" y="5714640"/>
              <a:ext cx="15228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7280" y="56386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95880" y="5790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095880" y="5714640"/>
              <a:ext cx="152640" cy="15264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019920" y="56386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67280" y="579096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19920" y="5867280"/>
              <a:ext cx="15228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867280" y="5867280"/>
              <a:ext cx="152640" cy="15228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43600" y="5714640"/>
              <a:ext cx="228600" cy="2286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0063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5791320" y="3962520"/>
            <a:ext cx="457200" cy="380880"/>
            <a:chOff x="5791320" y="3962520"/>
            <a:chExt cx="457200" cy="380880"/>
          </a:xfrm>
        </p:grpSpPr>
        <p:sp>
          <p:nvSpPr>
            <p:cNvPr id="654" name=""/>
            <p:cNvSpPr/>
            <p:nvPr/>
          </p:nvSpPr>
          <p:spPr>
            <a:xfrm>
              <a:off x="579132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86764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09624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096240" y="403884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019920" y="39625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867640" y="4114800"/>
              <a:ext cx="152280" cy="15264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01992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867640" y="4191120"/>
              <a:ext cx="152280" cy="15228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43600" y="4038840"/>
              <a:ext cx="228600" cy="2286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e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hybrid cros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91548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585520" y="137088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802520" y="25138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5520" y="2513880"/>
            <a:ext cx="58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359240" y="251388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17160" y="2529720"/>
            <a:ext cx="5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686520" y="3276000"/>
            <a:ext cx="711000" cy="3065040"/>
            <a:chOff x="686520" y="3276000"/>
            <a:chExt cx="711000" cy="3065040"/>
          </a:xfrm>
        </p:grpSpPr>
        <p:sp>
          <p:nvSpPr>
            <p:cNvPr id="671" name=""/>
            <p:cNvSpPr/>
            <p:nvPr/>
          </p:nvSpPr>
          <p:spPr>
            <a:xfrm>
              <a:off x="686520" y="327600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0600" y="4113720"/>
              <a:ext cx="583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7760" y="49518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70400" y="5790240"/>
              <a:ext cx="54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1524600" y="3412440"/>
            <a:ext cx="124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883960" y="3412440"/>
            <a:ext cx="111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136040" y="3412440"/>
            <a:ext cx="119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495400" y="341244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588680" y="4250520"/>
            <a:ext cx="111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948040" y="4250520"/>
            <a:ext cx="98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200120" y="425052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559480" y="4250520"/>
            <a:ext cx="94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45120" y="5088960"/>
            <a:ext cx="119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906280" y="508896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57640" y="5088960"/>
            <a:ext cx="115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16640" y="5088960"/>
            <a:ext cx="102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09200" y="585072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968560" y="5850720"/>
            <a:ext cx="94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221360" y="5850720"/>
            <a:ext cx="102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580720" y="585072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092320" y="13708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1932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95480" y="1905120"/>
            <a:ext cx="457200" cy="457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7315200" y="2062440"/>
            <a:ext cx="1670040" cy="769320"/>
            <a:chOff x="7315200" y="2062440"/>
            <a:chExt cx="1670040" cy="769320"/>
          </a:xfrm>
        </p:grpSpPr>
        <p:sp>
          <p:nvSpPr>
            <p:cNvPr id="695" name=""/>
            <p:cNvSpPr/>
            <p:nvPr/>
          </p:nvSpPr>
          <p:spPr>
            <a:xfrm>
              <a:off x="7315200" y="2219400"/>
              <a:ext cx="457200" cy="4572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932600" y="206244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9/16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7315200" y="3304080"/>
            <a:ext cx="1670040" cy="769320"/>
            <a:chOff x="7315200" y="3304080"/>
            <a:chExt cx="1670040" cy="769320"/>
          </a:xfrm>
        </p:grpSpPr>
        <p:sp>
          <p:nvSpPr>
            <p:cNvPr id="698" name=""/>
            <p:cNvSpPr/>
            <p:nvPr/>
          </p:nvSpPr>
          <p:spPr>
            <a:xfrm>
              <a:off x="7315200" y="3461040"/>
              <a:ext cx="457200" cy="457200"/>
            </a:xfrm>
            <a:prstGeom prst="ellipse">
              <a:avLst/>
            </a:prstGeom>
            <a:solidFill>
              <a:srgbClr val="006301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932600" y="3304080"/>
              <a:ext cx="105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round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7315200" y="4545360"/>
            <a:ext cx="1809720" cy="769320"/>
            <a:chOff x="7315200" y="4545360"/>
            <a:chExt cx="1809720" cy="769320"/>
          </a:xfrm>
        </p:grpSpPr>
        <p:grpSp>
          <p:nvGrpSpPr>
            <p:cNvPr id="701" name=""/>
            <p:cNvGrpSpPr/>
            <p:nvPr/>
          </p:nvGrpSpPr>
          <p:grpSpPr>
            <a:xfrm>
              <a:off x="7315200" y="4740120"/>
              <a:ext cx="457200" cy="380880"/>
              <a:chOff x="7315200" y="4740120"/>
              <a:chExt cx="457200" cy="380880"/>
            </a:xfrm>
          </p:grpSpPr>
          <p:sp>
            <p:nvSpPr>
              <p:cNvPr id="702" name=""/>
              <p:cNvSpPr/>
              <p:nvPr/>
            </p:nvSpPr>
            <p:spPr>
              <a:xfrm>
                <a:off x="731520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39152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6201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620120" y="481644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543800" y="47401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91520" y="4892400"/>
                <a:ext cx="152280" cy="15264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54380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391520" y="4968720"/>
                <a:ext cx="152280" cy="15228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467480" y="4816440"/>
                <a:ext cx="228600" cy="2286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ffea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7792920" y="454536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3/16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yellow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7315200" y="5788440"/>
            <a:ext cx="1809720" cy="769320"/>
            <a:chOff x="7315200" y="5788440"/>
            <a:chExt cx="1809720" cy="769320"/>
          </a:xfrm>
        </p:grpSpPr>
        <p:grpSp>
          <p:nvGrpSpPr>
            <p:cNvPr id="713" name=""/>
            <p:cNvGrpSpPr/>
            <p:nvPr/>
          </p:nvGrpSpPr>
          <p:grpSpPr>
            <a:xfrm>
              <a:off x="7315200" y="5983200"/>
              <a:ext cx="457200" cy="380880"/>
              <a:chOff x="7315200" y="5983200"/>
              <a:chExt cx="457200" cy="380880"/>
            </a:xfrm>
          </p:grpSpPr>
          <p:sp>
            <p:nvSpPr>
              <p:cNvPr id="714" name=""/>
              <p:cNvSpPr/>
              <p:nvPr/>
            </p:nvSpPr>
            <p:spPr>
              <a:xfrm>
                <a:off x="7315200" y="6059160"/>
                <a:ext cx="15228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91160" y="59832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6197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619760" y="6059160"/>
                <a:ext cx="152640" cy="15264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543800" y="59832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391160" y="613548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543800" y="6211800"/>
                <a:ext cx="15228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391160" y="6211800"/>
                <a:ext cx="152640" cy="15228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467480" y="6059160"/>
                <a:ext cx="228600" cy="2286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7792920" y="5788440"/>
              <a:ext cx="13320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1/16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gree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wrinkled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0457-ADA1-4186-9923-ADDC20ADF026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5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65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8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9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5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’s laws of heredity (#2)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aw of independent assortm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ach pair of alleles segregates into gametes independently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4 classes of gametes are produced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 equal amoun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YR, Yr, yR, yr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nly true for genes on separate chromosom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5488920" y="5419440"/>
            <a:ext cx="2661120" cy="605160"/>
            <a:chOff x="5488920" y="5419440"/>
            <a:chExt cx="2661120" cy="605160"/>
          </a:xfrm>
        </p:grpSpPr>
        <p:sp>
          <p:nvSpPr>
            <p:cNvPr id="728" name=""/>
            <p:cNvSpPr/>
            <p:nvPr/>
          </p:nvSpPr>
          <p:spPr>
            <a:xfrm rot="1800000">
              <a:off x="7543080" y="556200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 rot="3600000">
              <a:off x="6828840" y="564552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7200000">
              <a:off x="6198480" y="564624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 rot="9000000">
              <a:off x="5486040" y="556128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6284880" y="4495680"/>
            <a:ext cx="1066680" cy="10670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800600" y="6019920"/>
            <a:ext cx="838080" cy="8380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892840" y="6019920"/>
            <a:ext cx="838080" cy="8380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85080" y="6019920"/>
            <a:ext cx="838080" cy="8380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077320" y="6019920"/>
            <a:ext cx="838080" cy="8380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629400" y="4572000"/>
            <a:ext cx="76320" cy="30492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ea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0" y="4572000"/>
            <a:ext cx="76320" cy="30492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0063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05720" y="4952880"/>
            <a:ext cx="114120" cy="45720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05520" y="6248520"/>
            <a:ext cx="75960" cy="30456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ea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238880" y="6324480"/>
            <a:ext cx="76320" cy="30492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0063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334120" y="6172200"/>
            <a:ext cx="114120" cy="45720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172200" y="6324480"/>
            <a:ext cx="76320" cy="30492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ea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00800" y="6248520"/>
            <a:ext cx="114480" cy="45720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305920" y="6324480"/>
            <a:ext cx="75960" cy="30492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0063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934320" y="4952880"/>
            <a:ext cx="75960" cy="457200"/>
          </a:xfrm>
          <a:custGeom>
            <a:avLst/>
            <a:gdLst/>
            <a:ahLst/>
            <a:rect l="l" t="t" r="r" b="b"/>
            <a:pathLst>
              <a:path w="72" h="331">
                <a:moveTo>
                  <a:pt x="0" y="0"/>
                </a:moveTo>
                <a:cubicBezTo>
                  <a:pt x="12" y="18"/>
                  <a:pt x="21" y="15"/>
                  <a:pt x="34" y="34"/>
                </a:cubicBezTo>
                <a:cubicBezTo>
                  <a:pt x="27" y="43"/>
                  <a:pt x="14" y="47"/>
                  <a:pt x="10" y="58"/>
                </a:cubicBezTo>
                <a:cubicBezTo>
                  <a:pt x="2" y="74"/>
                  <a:pt x="37" y="89"/>
                  <a:pt x="48" y="96"/>
                </a:cubicBezTo>
                <a:cubicBezTo>
                  <a:pt x="51" y="105"/>
                  <a:pt x="63" y="116"/>
                  <a:pt x="58" y="125"/>
                </a:cubicBezTo>
                <a:cubicBezTo>
                  <a:pt x="44" y="144"/>
                  <a:pt x="31" y="160"/>
                  <a:pt x="24" y="182"/>
                </a:cubicBezTo>
                <a:cubicBezTo>
                  <a:pt x="36" y="201"/>
                  <a:pt x="50" y="220"/>
                  <a:pt x="62" y="240"/>
                </a:cubicBezTo>
                <a:cubicBezTo>
                  <a:pt x="60" y="244"/>
                  <a:pt x="61" y="250"/>
                  <a:pt x="58" y="254"/>
                </a:cubicBezTo>
                <a:cubicBezTo>
                  <a:pt x="49" y="262"/>
                  <a:pt x="29" y="273"/>
                  <a:pt x="29" y="273"/>
                </a:cubicBezTo>
                <a:cubicBezTo>
                  <a:pt x="32" y="286"/>
                  <a:pt x="32" y="297"/>
                  <a:pt x="43" y="307"/>
                </a:cubicBezTo>
                <a:cubicBezTo>
                  <a:pt x="51" y="314"/>
                  <a:pt x="72" y="317"/>
                  <a:pt x="72" y="3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467480" y="6172200"/>
            <a:ext cx="76320" cy="457200"/>
          </a:xfrm>
          <a:custGeom>
            <a:avLst/>
            <a:gdLst/>
            <a:ahLst/>
            <a:rect l="l" t="t" r="r" b="b"/>
            <a:pathLst>
              <a:path w="72" h="331">
                <a:moveTo>
                  <a:pt x="0" y="0"/>
                </a:moveTo>
                <a:cubicBezTo>
                  <a:pt x="12" y="18"/>
                  <a:pt x="21" y="15"/>
                  <a:pt x="34" y="34"/>
                </a:cubicBezTo>
                <a:cubicBezTo>
                  <a:pt x="27" y="43"/>
                  <a:pt x="14" y="47"/>
                  <a:pt x="10" y="58"/>
                </a:cubicBezTo>
                <a:cubicBezTo>
                  <a:pt x="2" y="74"/>
                  <a:pt x="37" y="89"/>
                  <a:pt x="48" y="96"/>
                </a:cubicBezTo>
                <a:cubicBezTo>
                  <a:pt x="51" y="105"/>
                  <a:pt x="63" y="116"/>
                  <a:pt x="58" y="125"/>
                </a:cubicBezTo>
                <a:cubicBezTo>
                  <a:pt x="44" y="144"/>
                  <a:pt x="31" y="160"/>
                  <a:pt x="24" y="182"/>
                </a:cubicBezTo>
                <a:cubicBezTo>
                  <a:pt x="36" y="201"/>
                  <a:pt x="50" y="220"/>
                  <a:pt x="62" y="240"/>
                </a:cubicBezTo>
                <a:cubicBezTo>
                  <a:pt x="60" y="244"/>
                  <a:pt x="61" y="250"/>
                  <a:pt x="58" y="254"/>
                </a:cubicBezTo>
                <a:cubicBezTo>
                  <a:pt x="49" y="262"/>
                  <a:pt x="29" y="273"/>
                  <a:pt x="29" y="273"/>
                </a:cubicBezTo>
                <a:cubicBezTo>
                  <a:pt x="32" y="286"/>
                  <a:pt x="32" y="297"/>
                  <a:pt x="43" y="307"/>
                </a:cubicBezTo>
                <a:cubicBezTo>
                  <a:pt x="51" y="314"/>
                  <a:pt x="72" y="317"/>
                  <a:pt x="72" y="3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534520" y="6172200"/>
            <a:ext cx="75960" cy="457200"/>
          </a:xfrm>
          <a:custGeom>
            <a:avLst/>
            <a:gdLst/>
            <a:ahLst/>
            <a:rect l="l" t="t" r="r" b="b"/>
            <a:pathLst>
              <a:path w="72" h="331">
                <a:moveTo>
                  <a:pt x="0" y="0"/>
                </a:moveTo>
                <a:cubicBezTo>
                  <a:pt x="12" y="18"/>
                  <a:pt x="21" y="15"/>
                  <a:pt x="34" y="34"/>
                </a:cubicBezTo>
                <a:cubicBezTo>
                  <a:pt x="27" y="43"/>
                  <a:pt x="14" y="47"/>
                  <a:pt x="10" y="58"/>
                </a:cubicBezTo>
                <a:cubicBezTo>
                  <a:pt x="2" y="74"/>
                  <a:pt x="37" y="89"/>
                  <a:pt x="48" y="96"/>
                </a:cubicBezTo>
                <a:cubicBezTo>
                  <a:pt x="51" y="105"/>
                  <a:pt x="63" y="116"/>
                  <a:pt x="58" y="125"/>
                </a:cubicBezTo>
                <a:cubicBezTo>
                  <a:pt x="44" y="144"/>
                  <a:pt x="31" y="160"/>
                  <a:pt x="24" y="182"/>
                </a:cubicBezTo>
                <a:cubicBezTo>
                  <a:pt x="36" y="201"/>
                  <a:pt x="50" y="220"/>
                  <a:pt x="62" y="240"/>
                </a:cubicBezTo>
                <a:cubicBezTo>
                  <a:pt x="60" y="244"/>
                  <a:pt x="61" y="250"/>
                  <a:pt x="58" y="254"/>
                </a:cubicBezTo>
                <a:cubicBezTo>
                  <a:pt x="49" y="262"/>
                  <a:pt x="29" y="273"/>
                  <a:pt x="29" y="273"/>
                </a:cubicBezTo>
                <a:cubicBezTo>
                  <a:pt x="32" y="286"/>
                  <a:pt x="32" y="297"/>
                  <a:pt x="43" y="307"/>
                </a:cubicBezTo>
                <a:cubicBezTo>
                  <a:pt x="51" y="314"/>
                  <a:pt x="72" y="317"/>
                  <a:pt x="72" y="3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956880" y="5419440"/>
            <a:ext cx="2661480" cy="605160"/>
            <a:chOff x="956880" y="5419440"/>
            <a:chExt cx="2661480" cy="605160"/>
          </a:xfrm>
        </p:grpSpPr>
        <p:sp>
          <p:nvSpPr>
            <p:cNvPr id="750" name=""/>
            <p:cNvSpPr/>
            <p:nvPr/>
          </p:nvSpPr>
          <p:spPr>
            <a:xfrm rot="1800000">
              <a:off x="3011040" y="556236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 rot="3600000">
              <a:off x="2296800" y="564624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7200000">
              <a:off x="1666800" y="564624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 rot="9000000">
              <a:off x="953640" y="5561280"/>
              <a:ext cx="609840" cy="151920"/>
            </a:xfrm>
            <a:prstGeom prst="rightArrow">
              <a:avLst>
                <a:gd name="adj1" fmla="val 50000"/>
                <a:gd name="adj2" fmla="val 100355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1752480" y="4495680"/>
            <a:ext cx="1067040" cy="10670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68200" y="6019920"/>
            <a:ext cx="838440" cy="8380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360440" y="6019920"/>
            <a:ext cx="838080" cy="8380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452680" y="6019920"/>
            <a:ext cx="838080" cy="8380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544920" y="6019920"/>
            <a:ext cx="838080" cy="8380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97000" y="4572000"/>
            <a:ext cx="76320" cy="30492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ea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325600" y="4572000"/>
            <a:ext cx="76320" cy="30492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0063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362320" y="4952880"/>
            <a:ext cx="114120" cy="45720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73120" y="6248520"/>
            <a:ext cx="76320" cy="30456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ea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706840" y="6324480"/>
            <a:ext cx="75960" cy="30492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0063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39800" y="6324480"/>
            <a:ext cx="76320" cy="30492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ea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935440" y="6172200"/>
            <a:ext cx="114120" cy="45720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773520" y="6324480"/>
            <a:ext cx="76320" cy="30492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0063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133720" y="4952880"/>
            <a:ext cx="75960" cy="457200"/>
          </a:xfrm>
          <a:custGeom>
            <a:avLst/>
            <a:gdLst/>
            <a:ahLst/>
            <a:rect l="l" t="t" r="r" b="b"/>
            <a:pathLst>
              <a:path w="72" h="331">
                <a:moveTo>
                  <a:pt x="0" y="0"/>
                </a:moveTo>
                <a:cubicBezTo>
                  <a:pt x="12" y="18"/>
                  <a:pt x="21" y="15"/>
                  <a:pt x="34" y="34"/>
                </a:cubicBezTo>
                <a:cubicBezTo>
                  <a:pt x="27" y="43"/>
                  <a:pt x="14" y="47"/>
                  <a:pt x="10" y="58"/>
                </a:cubicBezTo>
                <a:cubicBezTo>
                  <a:pt x="2" y="74"/>
                  <a:pt x="37" y="89"/>
                  <a:pt x="48" y="96"/>
                </a:cubicBezTo>
                <a:cubicBezTo>
                  <a:pt x="51" y="105"/>
                  <a:pt x="63" y="116"/>
                  <a:pt x="58" y="125"/>
                </a:cubicBezTo>
                <a:cubicBezTo>
                  <a:pt x="44" y="144"/>
                  <a:pt x="31" y="160"/>
                  <a:pt x="24" y="182"/>
                </a:cubicBezTo>
                <a:cubicBezTo>
                  <a:pt x="36" y="201"/>
                  <a:pt x="50" y="220"/>
                  <a:pt x="62" y="240"/>
                </a:cubicBezTo>
                <a:cubicBezTo>
                  <a:pt x="60" y="244"/>
                  <a:pt x="61" y="250"/>
                  <a:pt x="58" y="254"/>
                </a:cubicBezTo>
                <a:cubicBezTo>
                  <a:pt x="49" y="262"/>
                  <a:pt x="29" y="273"/>
                  <a:pt x="29" y="273"/>
                </a:cubicBezTo>
                <a:cubicBezTo>
                  <a:pt x="32" y="286"/>
                  <a:pt x="32" y="297"/>
                  <a:pt x="43" y="307"/>
                </a:cubicBezTo>
                <a:cubicBezTo>
                  <a:pt x="51" y="314"/>
                  <a:pt x="72" y="317"/>
                  <a:pt x="72" y="3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868400" y="6172200"/>
            <a:ext cx="76320" cy="457200"/>
          </a:xfrm>
          <a:custGeom>
            <a:avLst/>
            <a:gdLst/>
            <a:ahLst/>
            <a:rect l="l" t="t" r="r" b="b"/>
            <a:pathLst>
              <a:path w="72" h="331">
                <a:moveTo>
                  <a:pt x="0" y="0"/>
                </a:moveTo>
                <a:cubicBezTo>
                  <a:pt x="12" y="18"/>
                  <a:pt x="21" y="15"/>
                  <a:pt x="34" y="34"/>
                </a:cubicBezTo>
                <a:cubicBezTo>
                  <a:pt x="27" y="43"/>
                  <a:pt x="14" y="47"/>
                  <a:pt x="10" y="58"/>
                </a:cubicBezTo>
                <a:cubicBezTo>
                  <a:pt x="2" y="74"/>
                  <a:pt x="37" y="89"/>
                  <a:pt x="48" y="96"/>
                </a:cubicBezTo>
                <a:cubicBezTo>
                  <a:pt x="51" y="105"/>
                  <a:pt x="63" y="116"/>
                  <a:pt x="58" y="125"/>
                </a:cubicBezTo>
                <a:cubicBezTo>
                  <a:pt x="44" y="144"/>
                  <a:pt x="31" y="160"/>
                  <a:pt x="24" y="182"/>
                </a:cubicBezTo>
                <a:cubicBezTo>
                  <a:pt x="36" y="201"/>
                  <a:pt x="50" y="220"/>
                  <a:pt x="62" y="240"/>
                </a:cubicBezTo>
                <a:cubicBezTo>
                  <a:pt x="60" y="244"/>
                  <a:pt x="61" y="250"/>
                  <a:pt x="58" y="254"/>
                </a:cubicBezTo>
                <a:cubicBezTo>
                  <a:pt x="49" y="262"/>
                  <a:pt x="29" y="273"/>
                  <a:pt x="29" y="273"/>
                </a:cubicBezTo>
                <a:cubicBezTo>
                  <a:pt x="32" y="286"/>
                  <a:pt x="32" y="297"/>
                  <a:pt x="43" y="307"/>
                </a:cubicBezTo>
                <a:cubicBezTo>
                  <a:pt x="51" y="314"/>
                  <a:pt x="72" y="317"/>
                  <a:pt x="72" y="3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62120" y="6172200"/>
            <a:ext cx="75960" cy="457200"/>
          </a:xfrm>
          <a:custGeom>
            <a:avLst/>
            <a:gdLst/>
            <a:ahLst/>
            <a:rect l="l" t="t" r="r" b="b"/>
            <a:pathLst>
              <a:path w="72" h="331">
                <a:moveTo>
                  <a:pt x="0" y="0"/>
                </a:moveTo>
                <a:cubicBezTo>
                  <a:pt x="12" y="18"/>
                  <a:pt x="21" y="15"/>
                  <a:pt x="34" y="34"/>
                </a:cubicBezTo>
                <a:cubicBezTo>
                  <a:pt x="27" y="43"/>
                  <a:pt x="14" y="47"/>
                  <a:pt x="10" y="58"/>
                </a:cubicBezTo>
                <a:cubicBezTo>
                  <a:pt x="2" y="74"/>
                  <a:pt x="37" y="89"/>
                  <a:pt x="48" y="96"/>
                </a:cubicBezTo>
                <a:cubicBezTo>
                  <a:pt x="51" y="105"/>
                  <a:pt x="63" y="116"/>
                  <a:pt x="58" y="125"/>
                </a:cubicBezTo>
                <a:cubicBezTo>
                  <a:pt x="44" y="144"/>
                  <a:pt x="31" y="160"/>
                  <a:pt x="24" y="182"/>
                </a:cubicBezTo>
                <a:cubicBezTo>
                  <a:pt x="36" y="201"/>
                  <a:pt x="50" y="220"/>
                  <a:pt x="62" y="240"/>
                </a:cubicBezTo>
                <a:cubicBezTo>
                  <a:pt x="60" y="244"/>
                  <a:pt x="61" y="250"/>
                  <a:pt x="58" y="254"/>
                </a:cubicBezTo>
                <a:cubicBezTo>
                  <a:pt x="49" y="262"/>
                  <a:pt x="29" y="273"/>
                  <a:pt x="29" y="273"/>
                </a:cubicBezTo>
                <a:cubicBezTo>
                  <a:pt x="32" y="286"/>
                  <a:pt x="32" y="297"/>
                  <a:pt x="43" y="307"/>
                </a:cubicBezTo>
                <a:cubicBezTo>
                  <a:pt x="51" y="314"/>
                  <a:pt x="72" y="317"/>
                  <a:pt x="72" y="33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038480" y="6172200"/>
            <a:ext cx="114480" cy="45720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4" y="32"/>
                  <a:pt x="48" y="64"/>
                  <a:pt x="48" y="96"/>
                </a:cubicBezTo>
                <a:cubicBezTo>
                  <a:pt x="48" y="128"/>
                  <a:pt x="8" y="176"/>
                  <a:pt x="0" y="192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039560" y="4647600"/>
            <a:ext cx="107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YyR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4440" y="5790240"/>
            <a:ext cx="4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221480" y="5790240"/>
            <a:ext cx="4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311560" y="5790240"/>
            <a:ext cx="53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378240" y="5790240"/>
            <a:ext cx="53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58040" y="5790240"/>
            <a:ext cx="56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750280" y="5790240"/>
            <a:ext cx="56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929640" y="5790240"/>
            <a:ext cx="44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996320" y="5790240"/>
            <a:ext cx="44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r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7543800" y="457200"/>
            <a:ext cx="1600200" cy="3429000"/>
            <a:chOff x="7543800" y="457200"/>
            <a:chExt cx="1600200" cy="3429000"/>
          </a:xfrm>
        </p:grpSpPr>
        <p:pic>
          <p:nvPicPr>
            <p:cNvPr id="781" name="" descr=""/>
            <p:cNvPicPr/>
            <p:nvPr/>
          </p:nvPicPr>
          <p:blipFill>
            <a:blip r:embed="rId1"/>
            <a:stretch/>
          </p:blipFill>
          <p:spPr>
            <a:xfrm>
              <a:off x="7869240" y="2590920"/>
              <a:ext cx="1274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7543800" y="457200"/>
              <a:ext cx="1371600" cy="1523880"/>
            </a:xfrm>
            <a:prstGeom prst="wedgeEllipseCallout">
              <a:avLst>
                <a:gd name="adj1" fmla="val -115"/>
                <a:gd name="adj2" fmla="val 97398"/>
              </a:avLst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Can you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think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of an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exception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to this?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3FE5-E86A-4E6E-8575-4F9FDEF13797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"/>
          <p:cNvGrpSpPr/>
          <p:nvPr/>
        </p:nvGrpSpPr>
        <p:grpSpPr>
          <a:xfrm>
            <a:off x="5273640" y="1143000"/>
            <a:ext cx="3793680" cy="5714640"/>
            <a:chOff x="5273640" y="1143000"/>
            <a:chExt cx="3793680" cy="5714640"/>
          </a:xfrm>
        </p:grpSpPr>
        <p:pic>
          <p:nvPicPr>
            <p:cNvPr id="785" name="" descr=""/>
            <p:cNvPicPr/>
            <p:nvPr/>
          </p:nvPicPr>
          <p:blipFill>
            <a:blip r:embed="rId1"/>
            <a:srcRect l="61970" t="0" r="0" b="4984"/>
            <a:stretch/>
          </p:blipFill>
          <p:spPr>
            <a:xfrm>
              <a:off x="5940000" y="1143000"/>
              <a:ext cx="3127320" cy="57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5273640" y="1528920"/>
              <a:ext cx="1886400" cy="61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w of Independent Assortmen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6781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meiotic event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reates the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aw of independent assortment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4571640" y="3580920"/>
            <a:ext cx="2210040" cy="838800"/>
            <a:chOff x="4571640" y="3580920"/>
            <a:chExt cx="2210040" cy="838800"/>
          </a:xfrm>
        </p:grpSpPr>
        <p:sp>
          <p:nvSpPr>
            <p:cNvPr id="790" name=""/>
            <p:cNvSpPr/>
            <p:nvPr/>
          </p:nvSpPr>
          <p:spPr>
            <a:xfrm>
              <a:off x="4647960" y="3886200"/>
              <a:ext cx="2133720" cy="533520"/>
            </a:xfrm>
            <a:custGeom>
              <a:avLst/>
              <a:gdLst>
                <a:gd name="textAreaLeft" fmla="*/ 333360 w 2133720"/>
                <a:gd name="textAreaRight" fmla="*/ 1867320 w 213372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1640" y="3580920"/>
              <a:ext cx="1671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Meiosis 1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990720" y="3429000"/>
            <a:ext cx="2133360" cy="3352680"/>
            <a:chOff x="990720" y="3429000"/>
            <a:chExt cx="2133360" cy="3352680"/>
          </a:xfrm>
        </p:grpSpPr>
        <p:pic>
          <p:nvPicPr>
            <p:cNvPr id="793" name="" descr=""/>
            <p:cNvPicPr/>
            <p:nvPr/>
          </p:nvPicPr>
          <p:blipFill>
            <a:blip r:embed="rId2"/>
            <a:stretch/>
          </p:blipFill>
          <p:spPr>
            <a:xfrm flipH="1">
              <a:off x="990720" y="5486400"/>
              <a:ext cx="12744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 flipH="1">
              <a:off x="990720" y="3429000"/>
              <a:ext cx="2133360" cy="1600200"/>
            </a:xfrm>
            <a:prstGeom prst="wedgeEllipseCallout">
              <a:avLst>
                <a:gd name="adj1" fmla="val 4162"/>
                <a:gd name="adj2" fmla="val 90078"/>
              </a:avLst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Remember…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Mendel didn’t 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even know DNA 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—or genes—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existed!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5099-F1D6-44A6-BFFC-37522313B24D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" descr=""/>
          <p:cNvPicPr/>
          <p:nvPr/>
        </p:nvPicPr>
        <p:blipFill>
          <a:blip r:embed="rId1"/>
          <a:stretch/>
        </p:blipFill>
        <p:spPr>
          <a:xfrm>
            <a:off x="3179880" y="380880"/>
            <a:ext cx="5964120" cy="6477120"/>
          </a:xfrm>
          <a:prstGeom prst="rect">
            <a:avLst/>
          </a:prstGeom>
          <a:ln w="0">
            <a:noFill/>
          </a:ln>
        </p:spPr>
      </p:pic>
      <p:sp>
        <p:nvSpPr>
          <p:cNvPr id="797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chromosomal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asis of Mendel’s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aws…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race the genetic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vents through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eiosis, gamet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ormation &amp;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ertilization to offspring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84DD-BC20-49F7-A8F0-BF3B37C1BCC3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733920" y="2895480"/>
            <a:ext cx="236196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One Op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172200" y="2895480"/>
            <a:ext cx="25146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he Other Op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5" dur="5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view: Mendel’s laws of heredity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Law of segregation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monohybrid cros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ngle trait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ach allele segregates into separate gamet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stablished by Meiosis 1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Law of independent assortmen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dihybrid (or more) cros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2 or more traits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ach pair of alleles for genes on separate chromosomes segregates into gametes independentl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stablished by Meiosis 1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7776-43B2-49D2-B000-0379F6708748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 chose peas wisel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ea plants are good for genetic researc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vailable in many varieties with distinct heritable features with different varia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lower color, seed color, seed shape, etc.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ndel had strict control over which plants mated with whic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ach pea plant has male &amp; female structur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ea plants can self-fertiliz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endel could also cross-pollinate plants: moving pollen from one plant to anoth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6F72-60C9-4A37-B312-B331429F1A58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2252" r="7878" b="0"/>
          <a:stretch/>
        </p:blipFill>
        <p:spPr>
          <a:xfrm>
            <a:off x="3970440" y="2666880"/>
            <a:ext cx="5097240" cy="4056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’s work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red pea plant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ross-pollinated true breeding parents (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aised seed &amp; then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bserved traits (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ilia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ed offspr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cross-pollinate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&amp; observed next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eneration (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A055-1D19-40BD-A756-A0EEBB71B7D3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ndel chose peas luckil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153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ea plants are good for genetic researc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latively simple geneticall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st characters are controlled by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 single gen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ach gene has only 2 alleles,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ne of which is completely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ominant over the oth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76320" y="5738760"/>
            <a:ext cx="1676160" cy="96696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6811920" y="3249720"/>
            <a:ext cx="2332080" cy="360828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A54B-3DE1-4375-A0A1-06F98122D7C0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3143520" cy="442116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E144-F1F5-427F-B279-CBE12DF1CD0A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45840" y="669240"/>
            <a:ext cx="686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Mendel collected data for 7 pea trait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2013" r="0" b="0"/>
          <a:stretch/>
        </p:blipFill>
        <p:spPr>
          <a:xfrm>
            <a:off x="1295280" y="1228680"/>
            <a:ext cx="6629400" cy="5629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1667-3627-4FC8-AF39-F645BA3993F3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67543" t="0" r="15927" b="82803"/>
          <a:stretch/>
        </p:blipFill>
        <p:spPr>
          <a:xfrm>
            <a:off x="5684760" y="1905120"/>
            <a:ext cx="755640" cy="834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47789" t="0" r="35681" b="82803"/>
          <a:stretch/>
        </p:blipFill>
        <p:spPr>
          <a:xfrm>
            <a:off x="2725560" y="1905120"/>
            <a:ext cx="754200" cy="834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ooking closer at Mendel’s work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56800" y="1369800"/>
            <a:ext cx="266328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true-breedin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urple-flower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4920" y="1369800"/>
            <a:ext cx="252324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ue-breeding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te-flower pe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79760" y="1512360"/>
            <a:ext cx="4017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840" y="3122280"/>
            <a:ext cx="8341560" cy="1448280"/>
            <a:chOff x="609840" y="3122280"/>
            <a:chExt cx="8341560" cy="1448280"/>
          </a:xfrm>
        </p:grpSpPr>
        <p:sp>
          <p:nvSpPr>
            <p:cNvPr id="130" name=""/>
            <p:cNvSpPr/>
            <p:nvPr/>
          </p:nvSpPr>
          <p:spPr>
            <a:xfrm>
              <a:off x="7796880" y="3504960"/>
              <a:ext cx="1154520" cy="41364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100%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52240" y="3122280"/>
              <a:ext cx="266328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purple-flower pea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840" y="3268440"/>
              <a:ext cx="1482120" cy="101052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(hybrids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3"/>
            <a:srcRect l="47789" t="0" r="35681" b="82803"/>
            <a:stretch/>
          </p:blipFill>
          <p:spPr>
            <a:xfrm>
              <a:off x="2979720" y="3735360"/>
              <a:ext cx="75420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4"/>
            <a:srcRect l="47789" t="0" r="35681" b="82803"/>
            <a:stretch/>
          </p:blipFill>
          <p:spPr>
            <a:xfrm>
              <a:off x="3817800" y="3735360"/>
              <a:ext cx="75420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5"/>
            <a:srcRect l="47789" t="0" r="35681" b="82803"/>
            <a:stretch/>
          </p:blipFill>
          <p:spPr>
            <a:xfrm>
              <a:off x="4656240" y="3735360"/>
              <a:ext cx="75384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6"/>
            <a:srcRect l="47789" t="0" r="35681" b="82803"/>
            <a:stretch/>
          </p:blipFill>
          <p:spPr>
            <a:xfrm>
              <a:off x="5494320" y="3735360"/>
              <a:ext cx="7542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"/>
          <p:cNvSpPr/>
          <p:nvPr/>
        </p:nvSpPr>
        <p:spPr>
          <a:xfrm>
            <a:off x="4495680" y="205740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09840" y="5313240"/>
            <a:ext cx="8135280" cy="1392480"/>
            <a:chOff x="609840" y="5313240"/>
            <a:chExt cx="8135280" cy="1392480"/>
          </a:xfrm>
        </p:grpSpPr>
        <p:pic>
          <p:nvPicPr>
            <p:cNvPr id="139" name="" descr=""/>
            <p:cNvPicPr/>
            <p:nvPr/>
          </p:nvPicPr>
          <p:blipFill>
            <a:blip r:embed="rId7"/>
            <a:srcRect l="67543" t="0" r="15927" b="82803"/>
            <a:stretch/>
          </p:blipFill>
          <p:spPr>
            <a:xfrm>
              <a:off x="5686560" y="5870520"/>
              <a:ext cx="75564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804920" y="5313240"/>
              <a:ext cx="252324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ヒラギノ角ゴ Pro W3"/>
                </a:rPr>
                <a:t>_x0008__x0008_</a:t>
              </a: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25%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hite-flower pea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9840" y="5767200"/>
              <a:ext cx="1482120" cy="73404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generatio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8"/>
            <a:srcRect l="47789" t="0" r="35681" b="82803"/>
            <a:stretch/>
          </p:blipFill>
          <p:spPr>
            <a:xfrm>
              <a:off x="2211480" y="5870520"/>
              <a:ext cx="75384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9"/>
            <a:srcRect l="47789" t="0" r="35681" b="82803"/>
            <a:stretch/>
          </p:blipFill>
          <p:spPr>
            <a:xfrm>
              <a:off x="3049560" y="5870520"/>
              <a:ext cx="754200" cy="8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10"/>
            <a:srcRect l="47789" t="0" r="35681" b="82803"/>
            <a:stretch/>
          </p:blipFill>
          <p:spPr>
            <a:xfrm>
              <a:off x="3887640" y="5870520"/>
              <a:ext cx="75420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055240" y="5313240"/>
              <a:ext cx="2663280" cy="6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75%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purple-flower pea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14320" y="5378040"/>
              <a:ext cx="730800" cy="41364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3:1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10920" y="1644120"/>
            <a:ext cx="435240" cy="4136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29680" y="4648320"/>
            <a:ext cx="4494600" cy="838080"/>
            <a:chOff x="229680" y="4648320"/>
            <a:chExt cx="4494600" cy="838080"/>
          </a:xfrm>
        </p:grpSpPr>
        <p:sp>
          <p:nvSpPr>
            <p:cNvPr id="149" name=""/>
            <p:cNvSpPr/>
            <p:nvPr/>
          </p:nvSpPr>
          <p:spPr>
            <a:xfrm>
              <a:off x="4495680" y="4800600"/>
              <a:ext cx="228600" cy="685800"/>
            </a:xfrm>
            <a:prstGeom prst="downArrow">
              <a:avLst>
                <a:gd name="adj1" fmla="val 50000"/>
                <a:gd name="adj2" fmla="val 75000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29680" y="4648320"/>
              <a:ext cx="1980000" cy="609480"/>
              <a:chOff x="229680" y="4648320"/>
              <a:chExt cx="1980000" cy="609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04920" y="4648320"/>
                <a:ext cx="1904760" cy="609480"/>
              </a:xfrm>
              <a:prstGeom prst="rightArrow">
                <a:avLst>
                  <a:gd name="adj1" fmla="val 50000"/>
                  <a:gd name="adj2" fmla="val 78131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29680" y="4739400"/>
                <a:ext cx="190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self-pollinate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F61F-BB5A-4EC8-9A98-AFE6BCDCBBC0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 did Mendel’s findings mean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aits come in alternative vers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urple vs. white flower colo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llel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ifferent alleles vary in the sequence of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nucleotide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at the specific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locu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of a gen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05520" y="396396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143000" y="3960360"/>
            <a:ext cx="3429000" cy="15570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urple-flower allele &amp; white-flower allele are 2 DNA variations at flower-color locu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5486400"/>
            <a:ext cx="3429000" cy="119124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ifferent versions of gene on homologous chromosom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8F33-1D5A-49EF-8B9D-FA250AC2B48A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aits are inherited as discrete uni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r each characteristic, an organism inherits 2 alleles, 1 from each par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diploi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ganism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herits 2 sets of chromosomes,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1 from each paren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omologous chromosom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ike having 2 editions of encyclopedia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cyclopedia Britannica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cyclopedia American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48320" y="5562720"/>
            <a:ext cx="4398840" cy="1295280"/>
            <a:chOff x="4648320" y="5562720"/>
            <a:chExt cx="4398840" cy="129528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7772400" y="5562720"/>
              <a:ext cx="1274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648320" y="5562720"/>
              <a:ext cx="2286000" cy="1066680"/>
            </a:xfrm>
            <a:prstGeom prst="wedgeEllipseCallout">
              <a:avLst>
                <a:gd name="adj1" fmla="val 100694"/>
                <a:gd name="adj2" fmla="val -18898"/>
              </a:avLst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What are the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advantages of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being diploid?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DBC7-4D03-4C6F-B328-EF092CDDA393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 did Mendel’s findings mean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me traits mask other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urple &amp; white flower colors are separate traits that do not blend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44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≠ </a:t>
            </a:r>
            <a:r>
              <a:rPr b="1" lang="en-US" sz="2400" spc="-1" strike="noStrike">
                <a:solidFill>
                  <a:srgbClr val="8044bc"/>
                </a:solidFill>
                <a:latin typeface="Arial"/>
              </a:rPr>
              <a:t>light purpl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44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mask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ominant allel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ully expressed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recessive allel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 noticeable effec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gene makes a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n-functional protei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400800" y="2959200"/>
            <a:ext cx="2666880" cy="3746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3352-46F1-45D8-A644-4BDCE6417371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otype vs. phenotyp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fference between how an organism “looks” &amp; its genetic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henotyp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escription of an organism’s trai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enotyp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escription of an organism’s genetic makeup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056360" y="4191120"/>
            <a:ext cx="2077920" cy="2589120"/>
            <a:chOff x="7056360" y="4191120"/>
            <a:chExt cx="2077920" cy="258912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rcRect l="44605" t="0" r="11727" b="46683"/>
            <a:stretch/>
          </p:blipFill>
          <p:spPr>
            <a:xfrm>
              <a:off x="7056360" y="4191120"/>
              <a:ext cx="1997280" cy="25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8715600" y="5843880"/>
              <a:ext cx="41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749080" y="47995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523880" y="4876920"/>
            <a:ext cx="5410440" cy="1143000"/>
          </a:xfrm>
          <a:custGeom>
            <a:avLst/>
            <a:gdLst>
              <a:gd name="textAreaLeft" fmla="*/ 0 w 5410440"/>
              <a:gd name="textAreaRight" fmla="*/ 5410800 w 54104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ea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Explain Mendel’s results usin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…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dominant &amp; recessive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…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henotype &amp; gentotyp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D154-644D-4CFF-8EF5-8AA958D363AF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01:03:27Z</dcterms:created>
  <dc:creator>Kim Foglia</dc:creator>
  <dc:description>All Rights Reserved. Copyright 2003. WD Interactive.</dc:description>
  <cp:keywords>Education Biology Zone Kim Foglia</cp:keywords>
  <dc:language>en-US</dc:language>
  <cp:lastModifiedBy> </cp:lastModifiedBy>
  <cp:lastPrinted>2006-01-12T03:28:47Z</cp:lastPrinted>
  <dcterms:modified xsi:type="dcterms:W3CDTF">2006-11-30T02:39:38Z</dcterms:modified>
  <cp:revision>39</cp:revision>
  <dc:subject>AP &amp; Regents Biology</dc:subject>
  <dc:title>Family resemblance can be striking!</dc:title>
</cp:coreProperties>
</file>